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AF4A-E814-49E0-AF5C-39E9C75F1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D9E3-4ABE-41B9-AF72-39BA2E8E1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2848-17FA-4DCB-A6F2-DD4F451148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0263-1B11-4E6C-9688-1AB1E36123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E170-D65D-4A49-9A2A-0137BB02C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Rektangel 1" descr=""/>
          <p:cNvPicPr/>
          <p:nvPr/>
        </p:nvPicPr>
        <p:blipFill>
          <a:blip r:embed="rId2"/>
          <a:stretch/>
        </p:blipFill>
        <p:spPr>
          <a:xfrm>
            <a:off x="590400" y="1792440"/>
            <a:ext cx="7810560" cy="3474720"/>
          </a:xfrm>
          <a:prstGeom prst="rect">
            <a:avLst/>
          </a:prstGeom>
          <a:ln w="0">
            <a:noFill/>
          </a:ln>
        </p:spPr>
      </p:pic>
      <p:pic>
        <p:nvPicPr>
          <p:cNvPr id="37" name="Bildobjekt 2" descr="header_WINNET8_black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562040"/>
          </a:xfrm>
          <a:prstGeom prst="rect">
            <a:avLst/>
          </a:prstGeom>
          <a:ln w="0">
            <a:noFill/>
          </a:ln>
        </p:spPr>
      </p:pic>
      <p:pic>
        <p:nvPicPr>
          <p:cNvPr id="38" name="Bildobjekt 3" descr="INTERREG_IVC_LOGO.eps"/>
          <p:cNvPicPr/>
          <p:nvPr/>
        </p:nvPicPr>
        <p:blipFill>
          <a:blip r:embed="rId4"/>
          <a:stretch/>
        </p:blipFill>
        <p:spPr>
          <a:xfrm>
            <a:off x="324000" y="6093000"/>
            <a:ext cx="1644480" cy="577800"/>
          </a:xfrm>
          <a:prstGeom prst="rect">
            <a:avLst/>
          </a:prstGeom>
          <a:ln w="0">
            <a:noFill/>
          </a:ln>
        </p:spPr>
      </p:pic>
      <p:pic>
        <p:nvPicPr>
          <p:cNvPr id="39" name="Bild 19" descr="logo"/>
          <p:cNvPicPr/>
          <p:nvPr/>
        </p:nvPicPr>
        <p:blipFill>
          <a:blip r:embed="rId5"/>
          <a:stretch/>
        </p:blipFill>
        <p:spPr>
          <a:xfrm>
            <a:off x="6516720" y="6308640"/>
            <a:ext cx="2360520" cy="3700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ktangel 8"/>
          <p:cNvSpPr/>
          <p:nvPr/>
        </p:nvSpPr>
        <p:spPr>
          <a:xfrm>
            <a:off x="1143000" y="2060640"/>
            <a:ext cx="71010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0" spc="-1" strike="noStrike">
                <a:solidFill>
                  <a:srgbClr val="222268"/>
                </a:solidFill>
                <a:latin typeface="Arial"/>
                <a:ea typeface="바탕"/>
              </a:rPr>
              <a:t>Winnet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22268"/>
                </a:solidFill>
                <a:latin typeface="Arial"/>
                <a:ea typeface="바탕"/>
              </a:rPr>
              <a:t>Interreg IV C Capitalisatio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76092"/>
                </a:solidFill>
                <a:latin typeface="Arial"/>
              </a:rPr>
              <a:t>WRC s – Women`s  Resource Centres Promoting Innovation in Gender Equality across Europe</a:t>
            </a:r>
            <a:br>
              <a:rPr sz="2000"/>
            </a:br>
            <a:r>
              <a:rPr b="1" lang="en-GB" sz="2000" spc="-1" strike="noStrike">
                <a:solidFill>
                  <a:srgbClr val="376092"/>
                </a:solidFill>
                <a:latin typeface="Arial"/>
              </a:rPr>
              <a:t>Winnet 8 policy recommendations on how to strengthening the Winnet Europe partnership net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68"/>
                </a:solidFill>
                <a:latin typeface="Arial"/>
                <a:ea typeface="바탕"/>
              </a:rPr>
              <a:t>Final Conference, September, 12- 14, 2011, Kastor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68"/>
                </a:solidFill>
                <a:latin typeface="Arial"/>
                <a:ea typeface="바탕"/>
              </a:rPr>
              <a:t>Britt-Marie S Torsten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ktangel 3"/>
          <p:cNvSpPr/>
          <p:nvPr/>
        </p:nvSpPr>
        <p:spPr>
          <a:xfrm>
            <a:off x="179280" y="1484280"/>
            <a:ext cx="87854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omen Resource centre’s are an actor to secure &amp; be the driving force to increase women`s participation, always with a “bottom up – grassroots perspective 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bour market, in ICT and Innovation and mobilize to entrepreneu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operates with other actors for; European, national, regional economical sustainable growth, a system of “doers” in all EU MS, all levels of MA or Public Authorities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indicated from the EU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 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Cs could participate in the regional decision-making process during the development of implementation policies, i.e. in the Monitoring Committee of the 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ribute to positive actions &amp; mainstreaming of the gender perspective in regional policies in EU and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 train the trainers concept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How to run a WRC succesfully, in all EU MS, use the training develop of Winnet Sweden &amp; Europé with support of TVV, 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ktangel 4"/>
          <p:cNvSpPr/>
          <p:nvPr/>
        </p:nvSpPr>
        <p:spPr>
          <a:xfrm>
            <a:off x="179280" y="1484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Winnet Europé digital platform www.winneteurop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Winnet 8 result  sustainable in W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gital website, as a part of the Digital strategy agenda of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cure the Winnet 8 website as a database of knowledge under Winnet Europe website with links to EU Commission, &amp; expand the knowledge through different actions on a virtual level to collect, searching &amp; spreading good practic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ulating and training decision makers to look at the existing positive actions &amp; gender equality good practices when formulating policies in any s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ktangel 1"/>
          <p:cNvSpPr/>
          <p:nvPr/>
        </p:nvSpPr>
        <p:spPr>
          <a:xfrm>
            <a:off x="179280" y="148428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an we continue to build on the results from Interreg IIIC project W.IN.NET (2003–2006)and Interreg III B FEM (2004–2007), The Winnet Europe organisation (2006) and WINNET8 beyond the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life of the Proj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ng of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Winnet Europe Member organisation as a platform of innovative, strong WRC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trengthening economic situation of WRC on long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and wealthy centre’s can hire workers who, paid well, perform consistently on long term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Quadruple helix method needs to be secured in the partnerships, where WRC s should be notified as a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legitim organisation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Civil society; WRC s, Academia, Policy &amp; decision makers, busines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ng of the establishment of; a Winnet Europe Partnership Platform for co-operation, based on Winnet Europe Center of Excellence of gender &amp; WRC re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ng for transnational collaboration in e.g. Structural Funds; and partnership criteria in different programs should allow multi professional networking and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124000" y="17640"/>
            <a:ext cx="465768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OCTION OF FUNDING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AL INCEN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2124000" y="112680"/>
            <a:ext cx="3311640" cy="11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f81bd"/>
                </a:solidFill>
                <a:latin typeface="Cambria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4f81bd"/>
                </a:solidFill>
                <a:latin typeface="Cambria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4f81bd"/>
                </a:solidFill>
                <a:latin typeface="Cambri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81bd"/>
                </a:solidFill>
                <a:latin typeface="Cambri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ktangel 3"/>
          <p:cNvSpPr/>
          <p:nvPr/>
        </p:nvSpPr>
        <p:spPr>
          <a:xfrm>
            <a:off x="0" y="1484280"/>
            <a:ext cx="91440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ing in mind that partnerships &amp; networks mean saving both human and economic resources; by go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with the MAG activities beyond the project’s lif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giving to the MAGs and the gender equality networks common aims and objectiv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giving opportunities and spaces for the partnerships to meet, i.e. in the WRC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communication and marketing means in order to spread and raise public awareness about positive action &amp; gender mainstreaming as tool to reach EU 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d promote the methodology developed by the EU on positive actions &amp; gender equity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not reinvent the whe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contact with the EU structure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incing ourselv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the WRC network is an important tool for supporting and monitoring positive actions- gender equity across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the Winnet Europe partnership with interested members of Winnet 8 MAG groups who would line to continue a&amp; meet after the Winnet 8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2340000" y="143280"/>
            <a:ext cx="301608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OLVMENT AND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080" y="9792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ktangel 8"/>
          <p:cNvSpPr/>
          <p:nvPr/>
        </p:nvSpPr>
        <p:spPr>
          <a:xfrm>
            <a:off x="0" y="15573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e the Winnet Europe association – as a EU plat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ool for economical &amp; sustainable growth - to secure women’s participation on the labour market, in innovation and entrepreneurship, ICT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network of innovative WRCs to develop and increase women’s participation in actions for regional &amp; economical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knowledge and experience while participating in meetings, conferences, seminars on the subject of gender and not directly related to that 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for funds to carry out further capitalization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Winnet Centre of Excell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; meetings between the academy, R&amp;D and the WRC network. themes, experience and projects performance indicators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undertaken in the research work at all levels: masters, doctoral and post-doctoral degree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der statistics and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itoring and evalu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ktangel 4"/>
          <p:cNvSpPr/>
          <p:nvPr/>
        </p:nvSpPr>
        <p:spPr>
          <a:xfrm>
            <a:off x="0" y="1628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ktangel 5"/>
          <p:cNvSpPr/>
          <p:nvPr/>
        </p:nvSpPr>
        <p:spPr>
          <a:xfrm>
            <a:off x="0" y="1557360"/>
            <a:ext cx="914400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winnet8.e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tt-marie.torstensson@winnetsverige.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; +46 70 2601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Europa karta"/>
          <p:cNvPicPr/>
          <p:nvPr/>
        </p:nvPicPr>
        <p:blipFill>
          <a:blip r:embed="rId1"/>
          <a:stretch/>
        </p:blipFill>
        <p:spPr>
          <a:xfrm>
            <a:off x="1619280" y="1484280"/>
            <a:ext cx="5197320" cy="4765680"/>
          </a:xfrm>
          <a:prstGeom prst="rect">
            <a:avLst/>
          </a:prstGeom>
          <a:ln w="0">
            <a:noFill/>
          </a:ln>
        </p:spPr>
      </p:pic>
      <p:sp>
        <p:nvSpPr>
          <p:cNvPr id="87" name="Bildtext 2 11"/>
          <p:cNvSpPr/>
          <p:nvPr/>
        </p:nvSpPr>
        <p:spPr>
          <a:xfrm>
            <a:off x="7164360" y="1484280"/>
            <a:ext cx="1000080" cy="612720"/>
          </a:xfrm>
          <a:prstGeom prst="borderCallout2">
            <a:avLst>
              <a:gd name="adj1" fmla="val 18750"/>
              <a:gd name="adj2" fmla="val -8333"/>
              <a:gd name="adj3" fmla="val 18652"/>
              <a:gd name="adj4" fmla="val -15398"/>
              <a:gd name="adj5" fmla="val 173314"/>
              <a:gd name="adj6" fmla="val -180157"/>
            </a:avLst>
          </a:prstGeom>
          <a:solidFill>
            <a:srgbClr val="4f81bd"/>
          </a:solidFill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Bildtext 2 12"/>
          <p:cNvSpPr/>
          <p:nvPr/>
        </p:nvSpPr>
        <p:spPr>
          <a:xfrm>
            <a:off x="3059280" y="1628640"/>
            <a:ext cx="1071360" cy="613080"/>
          </a:xfrm>
          <a:prstGeom prst="borderCallout2">
            <a:avLst>
              <a:gd name="adj1" fmla="val 18750"/>
              <a:gd name="adj2" fmla="val -8333"/>
              <a:gd name="adj3" fmla="val 18652"/>
              <a:gd name="adj4" fmla="val 120592"/>
              <a:gd name="adj5" fmla="val 243523"/>
              <a:gd name="adj6" fmla="val 144592"/>
            </a:avLst>
          </a:prstGeom>
          <a:solidFill>
            <a:srgbClr val="4f81bd"/>
          </a:solidFill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Bildtext 2 13"/>
          <p:cNvSpPr/>
          <p:nvPr/>
        </p:nvSpPr>
        <p:spPr>
          <a:xfrm>
            <a:off x="7053120" y="4286160"/>
            <a:ext cx="1143000" cy="612720"/>
          </a:xfrm>
          <a:prstGeom prst="borderCallout2">
            <a:avLst>
              <a:gd name="adj1" fmla="val 18750"/>
              <a:gd name="adj2" fmla="val -8333"/>
              <a:gd name="adj3" fmla="val 18652"/>
              <a:gd name="adj4" fmla="val -14861"/>
              <a:gd name="adj5" fmla="val 208550"/>
              <a:gd name="adj6" fmla="val -160555"/>
            </a:avLst>
          </a:prstGeom>
          <a:solidFill>
            <a:srgbClr val="4f81bd"/>
          </a:solidFill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Gre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Bildtext 2 14"/>
          <p:cNvSpPr/>
          <p:nvPr/>
        </p:nvSpPr>
        <p:spPr>
          <a:xfrm>
            <a:off x="755640" y="3789360"/>
            <a:ext cx="1143000" cy="612720"/>
          </a:xfrm>
          <a:prstGeom prst="borderCallout2">
            <a:avLst>
              <a:gd name="adj1" fmla="val 18750"/>
              <a:gd name="adj2" fmla="val -8333"/>
              <a:gd name="adj3" fmla="val 114541"/>
              <a:gd name="adj4" fmla="val 52587"/>
              <a:gd name="adj5" fmla="val 226111"/>
              <a:gd name="adj6" fmla="val 93333"/>
            </a:avLst>
          </a:prstGeom>
          <a:solidFill>
            <a:srgbClr val="4f81bd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Bildtext 2 18"/>
          <p:cNvSpPr/>
          <p:nvPr/>
        </p:nvSpPr>
        <p:spPr>
          <a:xfrm>
            <a:off x="1042920" y="1773360"/>
            <a:ext cx="1143000" cy="612720"/>
          </a:xfrm>
          <a:prstGeom prst="borderCallout2">
            <a:avLst>
              <a:gd name="adj1" fmla="val 18750"/>
              <a:gd name="adj2" fmla="val -8333"/>
              <a:gd name="adj3" fmla="val 152412"/>
              <a:gd name="adj4" fmla="val 53777"/>
              <a:gd name="adj5" fmla="val 214972"/>
              <a:gd name="adj6" fmla="val 175717"/>
            </a:avLst>
          </a:prstGeom>
          <a:solidFill>
            <a:srgbClr val="4f81bd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Sco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Bildtext 2 19"/>
          <p:cNvSpPr/>
          <p:nvPr/>
        </p:nvSpPr>
        <p:spPr>
          <a:xfrm>
            <a:off x="1778040" y="5726160"/>
            <a:ext cx="1143000" cy="612720"/>
          </a:xfrm>
          <a:prstGeom prst="borderCallout2">
            <a:avLst>
              <a:gd name="adj1" fmla="val 18750"/>
              <a:gd name="adj2" fmla="val -8333"/>
              <a:gd name="adj3" fmla="val 18652"/>
              <a:gd name="adj4" fmla="val 208055"/>
              <a:gd name="adj5" fmla="val -95597"/>
              <a:gd name="adj6" fmla="val 208888"/>
            </a:avLst>
          </a:prstGeom>
          <a:solidFill>
            <a:srgbClr val="4f81bd"/>
          </a:solidFill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Bildtext 2 20"/>
          <p:cNvSpPr/>
          <p:nvPr/>
        </p:nvSpPr>
        <p:spPr>
          <a:xfrm>
            <a:off x="7451640" y="2492280"/>
            <a:ext cx="914400" cy="612720"/>
          </a:xfrm>
          <a:prstGeom prst="borderCallout2">
            <a:avLst>
              <a:gd name="adj1" fmla="val 18750"/>
              <a:gd name="adj2" fmla="val -8333"/>
              <a:gd name="adj3" fmla="val 18652"/>
              <a:gd name="adj4" fmla="val -19097"/>
              <a:gd name="adj5" fmla="val 246634"/>
              <a:gd name="adj6" fmla="val -317537"/>
            </a:avLst>
          </a:prstGeom>
          <a:solidFill>
            <a:srgbClr val="4f81bd"/>
          </a:solidFill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Po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Bildtext 2 21"/>
          <p:cNvSpPr/>
          <p:nvPr/>
        </p:nvSpPr>
        <p:spPr>
          <a:xfrm>
            <a:off x="7338960" y="3500280"/>
            <a:ext cx="1143000" cy="613080"/>
          </a:xfrm>
          <a:prstGeom prst="borderCallout2">
            <a:avLst>
              <a:gd name="adj1" fmla="val 18750"/>
              <a:gd name="adj2" fmla="val -8333"/>
              <a:gd name="adj3" fmla="val 18652"/>
              <a:gd name="adj4" fmla="val -17500"/>
              <a:gd name="adj5" fmla="val 268393"/>
              <a:gd name="adj6" fmla="val -201666"/>
            </a:avLst>
          </a:prstGeom>
          <a:solidFill>
            <a:srgbClr val="4f81bd"/>
          </a:solidFill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ihandsfigur 22"/>
          <p:cNvSpPr/>
          <p:nvPr/>
        </p:nvSpPr>
        <p:spPr>
          <a:xfrm>
            <a:off x="5948280" y="4005360"/>
            <a:ext cx="57240" cy="396720"/>
          </a:xfrm>
          <a:custGeom>
            <a:avLst/>
            <a:gdLst/>
            <a:ahLst/>
            <a:rect l="l" t="t" r="r" b="b"/>
            <a:pathLst>
              <a:path w="56521" h="395785">
                <a:moveTo>
                  <a:pt x="56521" y="395785"/>
                </a:moveTo>
                <a:cubicBezTo>
                  <a:pt x="47422" y="382137"/>
                  <a:pt x="31260" y="371118"/>
                  <a:pt x="29225" y="354842"/>
                </a:cubicBezTo>
                <a:cubicBezTo>
                  <a:pt x="26231" y="330887"/>
                  <a:pt x="47608" y="272398"/>
                  <a:pt x="56521" y="245660"/>
                </a:cubicBezTo>
                <a:cubicBezTo>
                  <a:pt x="51972" y="222914"/>
                  <a:pt x="48976" y="199800"/>
                  <a:pt x="42873" y="177421"/>
                </a:cubicBezTo>
                <a:cubicBezTo>
                  <a:pt x="31477" y="135636"/>
                  <a:pt x="8324" y="85704"/>
                  <a:pt x="1930" y="40944"/>
                </a:cubicBezTo>
                <a:cubicBezTo>
                  <a:pt x="0" y="27433"/>
                  <a:pt x="1930" y="13648"/>
                  <a:pt x="1930" y="0"/>
                </a:cubicBezTo>
              </a:path>
            </a:pathLst>
          </a:cu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7293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WINNET 8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RAMEWORK &amp; OBJECTIV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628280"/>
            <a:ext cx="9144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2268"/>
                </a:solidFill>
                <a:latin typeface="Arial"/>
                <a:ea typeface="Arial"/>
              </a:rPr>
              <a:t>ENREC project 1997-1999, with the aim to create a WRC network in Eur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22268"/>
                </a:solidFill>
                <a:latin typeface="Arial"/>
                <a:ea typeface="Arial"/>
              </a:rPr>
              <a:t>Interreg III C W.IN.NET 2003-2006 to create a WRC s organisation in Europe with thematic focu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2268"/>
                </a:solidFill>
                <a:latin typeface="Arial"/>
                <a:ea typeface="Arial"/>
              </a:rPr>
              <a:t>Quality indicators and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2268"/>
                </a:solidFill>
                <a:latin typeface="Arial"/>
                <a:ea typeface="Arial"/>
              </a:rPr>
              <a:t>Entrepreneu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2268"/>
                </a:solidFill>
                <a:latin typeface="Arial"/>
                <a:ea typeface="Arial"/>
              </a:rPr>
              <a:t>Social ex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2268"/>
                </a:solidFill>
                <a:latin typeface="Arial"/>
                <a:ea typeface="Arial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2268"/>
                </a:solidFill>
                <a:latin typeface="Arial"/>
                <a:ea typeface="Arial"/>
              </a:rPr>
              <a:t>Women and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530532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.IN.NET Resul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28280"/>
            <a:ext cx="8472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Establishment of Winnet Europe in June, 2006 in Bruss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Position paper on how to mobilise women to ICT and Technology education and labour market presented at DG Info So Media 5 April, 2006, - led to Winnet Europe seminar on gender and ICT, in Helsinki, Finland, at the launch of the 7 EU FP for Research; </a:t>
            </a:r>
            <a:r>
              <a:rPr b="1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ECWT</a:t>
            </a:r>
            <a:r>
              <a:rPr b="0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; European Centre of Women and Technology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Meeting with EU Commissioner Danuta Hübner, for Regional policy, 6 December, 2006, to discuss how to use WRC s as actor to implement gender in ROP </a:t>
            </a:r>
            <a:r>
              <a:rPr b="1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which led to</a:t>
            </a:r>
            <a:r>
              <a:rPr b="0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The Nordic Conference 19 October, 2007 in Stockholm, Sweden, 180 participant from 18 countries from all over the glo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rdic Conference Resul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ith a European persp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goal for each workshop was to outline goals, on women’s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participation in EU programmes and cooper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WRCs &amp; European, national, regional &amp; local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al 1 Implementation of WR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tion and establishment of Women Resource Centers (WRCs) in all EU member states as an actor for women’s active participation in regional economical development for sustainable growth and competitivenes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al 2 Strategy plans for WR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ategy plans for WRC s as an actor for women’s active participation in EU member states for European, national, regional &amp; local economical development &amp; growth built on the result of the con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0560" y="189000"/>
            <a:ext cx="525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2268"/>
                </a:solidFill>
                <a:latin typeface="Arial"/>
                <a:ea typeface="Arial"/>
              </a:rPr>
              <a:t>Proposed Future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4000" y="1628280"/>
            <a:ext cx="8501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actions withi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European, Nordic, Baltic Sea Region (BSR) persp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other European MS, including; East, West and South zones reg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al 3 Development of Action plans in all EU 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European, national, regional &amp; local action plans in all EU MS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focus 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to build up an infrastructure of WRC s, to secure women’s participation in regional &amp; economical development for Grow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build up the know how, knowledge and experiences to establish up a Innovative system of Women Resource 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Centres, WRC s in Europ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411280" y="154800"/>
            <a:ext cx="467208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al Futur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net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ktangel 3"/>
          <p:cNvSpPr/>
          <p:nvPr/>
        </p:nvSpPr>
        <p:spPr>
          <a:xfrm>
            <a:off x="0" y="1413000"/>
            <a:ext cx="914400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Use the content and result of the 19th of 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 conference as a ground for future actions within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U, M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2. IVC Capitalisation Project/ Fast track application: to use the Winnet Europé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logue &amp;round table discussion`s between European, national, regional &amp; local actors for regional &amp; economical development for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Secure the Winnet Europe, virtual and interactive communication for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&amp;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nowledge on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tart and run a nation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&amp; local WRC shall be disseminated in all EU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ktangel 4"/>
          <p:cNvSpPr/>
          <p:nvPr/>
        </p:nvSpPr>
        <p:spPr>
          <a:xfrm>
            <a:off x="0" y="1484280"/>
            <a:ext cx="914400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omen Resource Centers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semination of the knowledge and promotion of WRCs as a tool for women’s participation in European, national, regional &amp; local economical development for regional growth; start in January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TERREG IVC CAPITALISATION PROJECT WINNET 8 develop 2008 – AF send in January 2009, approved October 2009, Start 1 Januar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673280" y="4292640"/>
            <a:ext cx="46990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0" y="551160"/>
            <a:ext cx="914400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f81bd"/>
                </a:solidFill>
                <a:latin typeface="Cambria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4f81bd"/>
                </a:solidFill>
                <a:latin typeface="Cambria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4f81bd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AMMING &amp;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ktangel 4"/>
          <p:cNvSpPr/>
          <p:nvPr/>
        </p:nvSpPr>
        <p:spPr>
          <a:xfrm>
            <a:off x="0" y="1533600"/>
            <a:ext cx="914400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strengthen the role of WRC s as an actor in th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of the next ROP; Role &amp; Functions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Cs coul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e in the regional decision-making process during the development of implementation policies, i.e. in the Monitoring Committee of the 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C could act as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gencies" supporting regions, providing counseling for regional stakeholders on positive actions, gender equality, providing experts giving opinions and advise concerning regional fu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Cs coul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trainings on structural funds, to encourage WRC s &amp; women’s organizations to apply for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e regional authorities about the condition for women &amp; empower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ment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anent cooperation between WRCs &amp; European, national regional authorities in Quadruple Helix platforms on all levels; to implement gender in policy and ROP actions for EU Cohesion &amp; EU 2020 Strategy and Flagships initiative in all MS &amp; beyond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09:47:30Z</dcterms:created>
  <dc:creator>Ann-Sofie</dc:creator>
  <dc:description/>
  <dc:language>en-US</dc:language>
  <cp:lastModifiedBy>ardkar1103</cp:lastModifiedBy>
  <dcterms:modified xsi:type="dcterms:W3CDTF">2011-10-14T13:45:34Z</dcterms:modified>
  <cp:revision>83</cp:revision>
  <dc:subject/>
  <dc:title>Bild 1</dc:title>
</cp:coreProperties>
</file>