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1CF-F583-455A-AA5A-A5D1FEC5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19000" y="4413600"/>
            <a:ext cx="7072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B72-9E40-4567-A6CD-79DE39EE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19000" y="441360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42760" y="441360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610-7665-4926-88DA-36BB2B6E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10120" y="223344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1600" y="223344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19000" y="441360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10120" y="441360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1600" y="441360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E55-8C52-4B01-A282-4E3FCCF1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2A32-F9A0-4E72-995A-863BC090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0815-825A-42DB-A27C-3187F249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6CB5-7C66-48F6-9FAB-FBB8B1DF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DF4E-50E9-4A1B-AC0A-36A2A9C3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9760-A8D3-4F14-AA86-265A4BE3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20440" y="1273320"/>
            <a:ext cx="707220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AC3E-E217-448C-A5FA-A58E69DC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19000" y="441360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E063-6196-4303-830F-E540A733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80A-00FF-4C51-BA3A-9B088F13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42760" y="441360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839A-AC62-4427-93FC-C1DC418E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19000" y="4413600"/>
            <a:ext cx="7072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6A90-C599-44AD-8F38-F16EB048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19000" y="4413600"/>
            <a:ext cx="7072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0627-EB3B-422B-BD30-9C15E59E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19000" y="441360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42760" y="441360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A752-E410-4C89-8238-3D9C431E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10120" y="223344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1600" y="223344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19000" y="441360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10120" y="441360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1600" y="441360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2811-1A7E-4FE2-BFD0-7D5E5BF0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43B-1910-4A89-9F12-428CC38A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161-E3E5-44DE-9CA0-DD6E6F5F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A2FF-E3E2-4743-A677-4A4AC583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20440" y="1273320"/>
            <a:ext cx="707220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BA6D-F6AA-45CD-AA04-5400948E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19000" y="441360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0D1-BD20-44E0-8913-23B3244B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2760" y="441360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202-7D23-4D0B-BFD8-30C5A761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19000" y="4413600"/>
            <a:ext cx="7072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D13-E5A9-4E8C-B102-D2205B46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afd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720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136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88840" indent="-17136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88840" indent="-17136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88840" indent="-17136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TVV"/>
          <p:cNvPicPr/>
          <p:nvPr/>
        </p:nvPicPr>
        <p:blipFill>
          <a:blip r:embed="rId2"/>
          <a:stretch/>
        </p:blipFill>
        <p:spPr>
          <a:xfrm>
            <a:off x="7621560" y="324000"/>
            <a:ext cx="1081080" cy="422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8"/>
          <p:cNvSpPr/>
          <p:nvPr/>
        </p:nvSpPr>
        <p:spPr>
          <a:xfrm>
            <a:off x="447840" y="368280"/>
            <a:ext cx="219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WEDISH AGENCY FOR ECONOM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AND REGIONAL GROW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431640" y="1006560"/>
            <a:ext cx="8715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3080" y="6455880"/>
            <a:ext cx="125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2C6D-C55B-4337-BAD0-08512580DC42}" type="datetime">
              <a:rPr b="1" lang="sv-SE" sz="700" spc="-1" strike="noStrike">
                <a:solidFill>
                  <a:srgbClr val="000000"/>
                </a:solidFill>
                <a:latin typeface="Arial"/>
              </a:rPr>
              <a:t>26-07-31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719360" y="6455880"/>
            <a:ext cx="278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5989680" y="6455880"/>
            <a:ext cx="107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2F07-47FB-470A-8392-BED4CCC9143B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5" descr="Vänsterställd logotyp med »En investering för framtiden«"/>
          <p:cNvPicPr/>
          <p:nvPr/>
        </p:nvPicPr>
        <p:blipFill>
          <a:blip r:embed="rId3"/>
          <a:stretch/>
        </p:blipFill>
        <p:spPr>
          <a:xfrm>
            <a:off x="5835600" y="131760"/>
            <a:ext cx="1590840" cy="8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TVV_monster_sid1"/>
          <p:cNvPicPr/>
          <p:nvPr/>
        </p:nvPicPr>
        <p:blipFill>
          <a:blip r:embed="rId2"/>
          <a:stretch/>
        </p:blipFill>
        <p:spPr>
          <a:xfrm>
            <a:off x="0" y="3817800"/>
            <a:ext cx="9144000" cy="261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TVV"/>
          <p:cNvPicPr/>
          <p:nvPr/>
        </p:nvPicPr>
        <p:blipFill>
          <a:blip r:embed="rId3"/>
          <a:stretch/>
        </p:blipFill>
        <p:spPr>
          <a:xfrm>
            <a:off x="7621560" y="324000"/>
            <a:ext cx="1081080" cy="422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1"/>
          <p:cNvSpPr/>
          <p:nvPr/>
        </p:nvSpPr>
        <p:spPr>
          <a:xfrm>
            <a:off x="447840" y="368280"/>
            <a:ext cx="219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WEDISH AGENCY FOR ECONOM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AND REGIONAL GROW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2"/>
          <p:cNvSpPr/>
          <p:nvPr/>
        </p:nvSpPr>
        <p:spPr>
          <a:xfrm>
            <a:off x="431640" y="1006560"/>
            <a:ext cx="8715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4"/>
          <p:cNvSpPr/>
          <p:nvPr/>
        </p:nvSpPr>
        <p:spPr>
          <a:xfrm>
            <a:off x="1835280" y="2230560"/>
            <a:ext cx="73054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6" descr="Vänsterställd logotyp med »En investering för framtiden«"/>
          <p:cNvPicPr/>
          <p:nvPr/>
        </p:nvPicPr>
        <p:blipFill>
          <a:blip r:embed="rId4"/>
          <a:stretch/>
        </p:blipFill>
        <p:spPr>
          <a:xfrm>
            <a:off x="5748480" y="139680"/>
            <a:ext cx="1590480" cy="80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afd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720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136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88840" indent="-17136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88840" indent="-17136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88840" indent="-17136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3080" y="6455880"/>
            <a:ext cx="125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3CD4-FE22-4283-B2B4-3AD3048309E6}" type="datetime">
              <a:rPr b="1" lang="sv-SE" sz="700" spc="-1" strike="noStrike">
                <a:solidFill>
                  <a:srgbClr val="000000"/>
                </a:solidFill>
                <a:latin typeface="Arial"/>
              </a:rPr>
              <a:t>26-07-31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719360" y="6455880"/>
            <a:ext cx="278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5989680" y="6455880"/>
            <a:ext cx="107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10F0-88CF-40D9-8633-763057632BB1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4AE1-A8DE-4FBF-9FD6-ABC34ABF9BEE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Upplägg presentation – regionala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strukturfondsprogram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tegier till grund för och geografi för de region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kturfondsprogra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omförandeorga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graminnehåll  - exempel programmet för Norra Mellansve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516D-BA97-4E43-B7E1-9E2339B24500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Förvaltande myndighet 2007-2013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illväxtverket - för Europeiska  regionala utvecklingsf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SF-rådet - för Europeiska socialf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6AEE-1A5C-4C2F-8081-FD9803D79E67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Organisation för genomförandet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illväxtverket som förvaltande myndig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dafd6"/>
                </a:solidFill>
                <a:latin typeface="Arial"/>
              </a:rPr>
              <a:t>-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programkontor (8 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ogramstöd (Östers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trukturfondspartnerskap (8 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Övervakningskommitté (3 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435F-4555-4122-81DB-08703EF43E52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Arbetsuppgifter Tillväxtverkets programkontor</a:t>
            </a:r>
            <a:br>
              <a:rPr sz="2400"/>
            </a:b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44120" y="1820880"/>
            <a:ext cx="714708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formation, råd och stöd till sök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ontakt med regionala aktörer – Regionförbund m f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ereda ansökningar, göra laglighetsprövning, bedöma överensstämmelse med program, åtgärdsdokument och urvalskriterier, lämna underlag till Strukturfondspartnerska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eslut om projekt enligt Strukturfondspartnerskapets prioriterin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ranskning av ansökan om utbetal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tbildning av projektä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jektuppfölj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amverkan med ESF-rådet, landsbygdsprogrammet m f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274A-5373-4B8B-8A65-EDF6AA5FFD48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Strukturfondspartnerskap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Gemensamt strukturfondspartnerskap för programprioriteringar för regionala utvecklingsfonden och socialfon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Bestå av politisk representation från kommuner och landsting samt arbetsmarknadens organisationer, representanter för länsstyrelser, arbetsförmedlingen samt social ekono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2968-563E-47DC-9A0B-0CEE2780DDA2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Strukturfondspartnerskap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trukturfondspartnerskapens roll regleras genom lag. Partnerskapet skall yttra sig över vilka ansökningar som skall priorite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ioriteringen är bindande för de förvaltande myndigheternas (Tillväxtverket och ESF-rådet) beslut om stö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C778-24AE-4D1D-AF69-7C340C7751F8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2dafd6"/>
                </a:solidFill>
                <a:latin typeface="Arial"/>
              </a:rPr>
              <a:t>Övervakningskommittéerna</a:t>
            </a:r>
            <a:endParaRPr b="1" lang="en-US" sz="32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Övervakningskommittéerna (3 st) ser till att programmen genomfö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illfredsställande genom at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odkänna urvalskriterier, åtgärdsprogram, utvärderingsplan, års- och slutrapporter samt varje förslag till ändring av innehållet i programmen innan det lämnas in till kommissionen för beslu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övervaka förverkligandet av målen för program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öreslå förvaltande myndigheten att utföra översyn och genomgång av program i syfte att målen förverkligas eller förvaltningen förbättr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atta beslut om programbudget för tekniskt stöd och göra en årlig övers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8337-8123-4986-BEF7-72329B83D41B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Programinnehåll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graminnehåll och programgenomförande – exempel frå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grammet för Norra Mellansve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gramskivningar och åtgärder (vad som är möjligt att finansie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kiljer sig åt mellan de åtta regionala strukturfondsprogram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en en gemensam nämnare är att programmen fokuserar p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tveckling av innovativa miljöer, entreprenörskap och tillgänglighet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arierande gr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0B5B-B14F-4864-AEBC-A6F73ED3541B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0840" y="1118880"/>
            <a:ext cx="70722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Norra Mellansverige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operativt_program_norra_mellansverige_2007-06-20_122"/>
          <p:cNvPicPr/>
          <p:nvPr/>
        </p:nvPicPr>
        <p:blipFill>
          <a:blip r:embed="rId1"/>
          <a:stretch/>
        </p:blipFill>
        <p:spPr>
          <a:xfrm>
            <a:off x="839880" y="2011320"/>
            <a:ext cx="3600360" cy="3672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-411120" y="70344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4584600" y="2036880"/>
            <a:ext cx="38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2dafd6"/>
                </a:solidFill>
                <a:latin typeface="Arial"/>
              </a:rPr>
              <a:t>3 län (Gävleborg, Dalarna och Värmland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2dafd6"/>
                </a:solidFill>
                <a:latin typeface="Arial"/>
              </a:rPr>
              <a:t>41 kommuner</a:t>
            </a:r>
            <a:br>
              <a:rPr sz="1800"/>
            </a:br>
            <a:br>
              <a:rPr sz="1800"/>
            </a:br>
            <a:r>
              <a:rPr b="1" lang="sv-SE" sz="1800" spc="-1" strike="noStrike">
                <a:solidFill>
                  <a:srgbClr val="2dafd6"/>
                </a:solidFill>
                <a:latin typeface="Arial"/>
              </a:rPr>
              <a:t>820 000 invånare (7 % av rikets befolkning)</a:t>
            </a:r>
            <a:br>
              <a:rPr sz="1800"/>
            </a:br>
            <a:br>
              <a:rPr sz="1800"/>
            </a:br>
            <a:r>
              <a:rPr b="1" lang="sv-SE" sz="1800" spc="-1" strike="noStrike">
                <a:solidFill>
                  <a:srgbClr val="2dafd6"/>
                </a:solidFill>
                <a:latin typeface="Arial"/>
              </a:rPr>
              <a:t>63987 kvadratkilometer (16 % av rikets landareal)</a:t>
            </a:r>
            <a:br>
              <a:rPr sz="1800"/>
            </a:br>
            <a:br>
              <a:rPr sz="1800"/>
            </a:br>
            <a:r>
              <a:rPr b="1" lang="sv-SE" sz="1800" spc="-1" strike="noStrike">
                <a:solidFill>
                  <a:srgbClr val="2dafd6"/>
                </a:solidFill>
                <a:latin typeface="Arial"/>
              </a:rPr>
              <a:t>13 personer per km2 (riket 22 invånare per k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169C-8AEC-47B8-B9F3-8131F06DC2EE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2dafd6"/>
                </a:solidFill>
                <a:latin typeface="Arial"/>
              </a:rPr>
              <a:t>Programmets övergripande mål</a:t>
            </a:r>
            <a:endParaRPr b="1" lang="en-US" sz="32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19360" y="2233440"/>
            <a:ext cx="6735600" cy="37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”’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tt utveckla innovativa miljöer, främja ett dynamiskt näringsliv och att öka tillgängligheten för regionens näringsliv och invåna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ogrammet ska bidra ti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 3000 nya föret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 6000 nya arbetstill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7509-5325-4FB5-865A-087607F62907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Programmets insatsområden, åtgärder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och budget 2007-2013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1. Näringslivsutveckling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1190 mk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varav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1.1 Innovativa miljöer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  495 mk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1.2 Entreprenörskap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  695 mk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2. Tillgänglighet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 495 mk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varav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2.1 Tillgänglighet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 495 mk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3. Tekniskt stöd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  70 mk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varav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3.1 Tekniskt stöd 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   70 mk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Summa: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1755 mk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FA47-D1AB-43DF-A53D-AED74939B361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EU:s samanhållningspolitik 2007-2013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06400" y="2014200"/>
            <a:ext cx="707256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Konverg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Konkurrenskraft och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sysselsätt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onvergence Objective and European Regional Competitiveness and Employment Objective"/>
          <p:cNvPicPr/>
          <p:nvPr/>
        </p:nvPicPr>
        <p:blipFill>
          <a:blip r:embed="rId1"/>
          <a:stretch/>
        </p:blipFill>
        <p:spPr>
          <a:xfrm>
            <a:off x="1643040" y="2087640"/>
            <a:ext cx="44784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D45F-D202-45E0-BDD3-8A7396F22638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Stödnivå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50 % av total offentlig finansi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40B4-8FCE-4714-A2FF-480A6467A78E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Vilka kan söka medel från de regionala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 strukturfondsprogrammen?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ffentliga aktörer (kommuner, landsting, regionförbund, statliga myndighe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niversitet, högskolor, forskningsinstit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konomiska och ideella föreningar, stiftel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7105-710F-4A0F-87AA-162428F6071E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Vad krävs för att en projektansökan ska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bli godkänd?</a:t>
            </a: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ojektet s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vara i linje med programmets insatsområden och urvalskrite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uppfylla EU:s och nationella förordnin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a nationell medfinansi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E595-538E-4F31-B169-DD8178047355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Programgenomförandet 2007-2009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ycket stort intresse för det regionala strukturfondsprogrammet – 316 ansökningar för drygt 2 miljarder k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ogrammet har en hög beslutsnivå med 198 beviljade projekt för sammanlagt 1089 mk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Regional förberedelse inför programstart – de tre regionförbunden finansierade under våren 2007 nästan 90 förstudier varav många blivit regionalfondsprojek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Regionen har tidigare erfarenhet av strukturfondsprogram – Mål 2 Norra, Mål 2 Västra och Mål 1 Södra (endast en ny kommun - Karlst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ogramkontoret har lagt mycket tid på informationsinsats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B507-23BB-4CCC-92FE-49ECF0D3E7C9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31600" y="1547280"/>
            <a:ext cx="70722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Jämförelse programperioden 2000-2006 (Mål 2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Norra) med perioden 2007-2013 (Norra Mellan-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sverige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Tenden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törre projekt i nuvarande programperiod. Medelvärdet för beviljat belopp per projekt är 5,5 mkr i nuvarande programperiod (i Mål 2 Norra var medelvärdet 2,5 mk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jekten verkar i större geografiska områden – från en kommunala projekt till fler kommunala projekt och regionala projekt. Fler projekt över regionsgränserna i Norra Mellansve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ydligare och mer fokuserat program i nuvarande programperi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 Mer fokus på innovativa miljöer – satsningar på kluster &amp; innovationssystem, tillämpad F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Kraftfull satsning på riskkapital för 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Större kraftfulla infrastruktursatsningar till nytta för näringsliv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16EC-5A06-4FBC-8BA6-8686B3312915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06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Beslutat belopp i procent av program-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budget 2007-2013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0920" y="2187360"/>
            <a:ext cx="72802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Åtgärd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     Budget 2007-2013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Beslutat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      % av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1.1 Innovativa miljöer    495.000.000 kr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315.688.814 kr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64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56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1.2 Entreprenörskap      695.000.000 kr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442.811.740 kr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64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88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2.1 Tillgänglighet            495.000.000 kr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331.418.529 kr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67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54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Summa: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    1.685.000.000 kr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1.089.919.083 kr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6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(198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C09C-00A5-4AA1-ABDD-C926415F9C13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82280" y="1079280"/>
            <a:ext cx="711036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Indikatorer (förväntat resultat från 165 beviljade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projekt samt utfall slutredovisade projekt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t.o.m 2009-04-30)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9400" y="2363760"/>
            <a:ext cx="711216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Åtgärd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Programmål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Förväntat resultat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Redovisat resultat slu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beviljade projekt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redovisade proje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1500 nya arbetstillfällen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1003 nya arbetstillfällen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81 nya arbetstillfä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500 nya företag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166 nya företag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10 nya föret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4000 nya arbetstillfällen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3817 nya arbetstillfällen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2500 nya företag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1936 nya företag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500 nya arbetstillfällen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346 nya arbetstillfällen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49 nya företag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10.502 hushåll och 100 företag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har fått möjlig tillgång till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bredbandsanslu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1EDE-06EF-4F32-B2AB-9FC21EC761C9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Urvalskriterier för projekt Norra Mellansverige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dikatorer (skapade arbetstillfällen och nya föret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Horisontella kriterier för hållbar utveck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Jämställd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Integration/mångf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Milj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ivat medfinansiering (likvida medel) och näringslivets medver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Åtgärdsspecifika urvalskrite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E158-1073-49DD-B34F-45517C2C187F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Ex åtgärdsspecifika urvalskriterier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19000" y="2070000"/>
            <a:ext cx="7072200" cy="43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172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Åtgärd 1.1 Innovativa miljö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rad av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amverkan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(forskning, högskolor/universitet, näringsliv och samhäl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Långsiktig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rad av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innovation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och teknisk utveck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rad av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 nyskapande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(nya arbetsmetoder och samverkansfor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Marknadskop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Internationell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Koppling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, avgränsning och interaktion till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ndra projekt/program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(regionalt och nationel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Gränsöverskridande samarbeten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(region, nation och internationel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pridning av resultat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(målgrupp, lärande, utvärdering och met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989B-A7C2-4A6A-BAC4-3DAF3F79781A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Horisontella kriterier - jämställdhet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arje projekt inom regionalfondsprogrammet ska beskriva hur m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rbetar med jämställdhet och besvara följande fyra fråg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ilka mätbara mål finns avseende jämställdhet i projekt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ilka aktiviteter planeras för att nå målen när det gäller jämställdh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å vilket sätt påverkar projektets resultat och effekter jämställdh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Hur kommer projektet kvinnor och män till godo vad gäller företagande och arbetstillfäl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ED45-2325-4ADB-B404-9B63A0FF4CCC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Strategier som ligger till grund för de regionala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strukturfondsprogrammen 2007-2013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80840" y="20318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U niv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sabonstrategin och sammanhållningspolit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Nationell niv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Nationella strat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Regional niv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   RTP och R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E7C4-F463-4741-96DD-6829F16E1DFC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Horisontella kriterier - jämställdhet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tifrån projektets beskrivning bedöms projektet påverkan p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Jämställdhe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yftar direkt till att öka jämställdh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Har en övervägande positiv påverkan ur ett jämställdhetsperspek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Har en övervägande negativ påverkan ur ett jämställdhetsperspek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Liknande bedömningar görs även för de horisontella kriterierna milj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ch integration/mångf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0B9D-014A-443B-8A8B-A4DB4EBA2223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2dafd6"/>
                </a:solidFill>
                <a:latin typeface="Arial"/>
              </a:rPr>
              <a:t>Åtgärd 1.1 Innovativa miljöer – huvudsakligt åtgärdsinnehåll</a:t>
            </a:r>
            <a:br>
              <a:rPr sz="2000"/>
            </a:br>
            <a:endParaRPr b="1" lang="en-US" sz="2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44560" y="1969920"/>
            <a:ext cx="707256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4520" indent="-1645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Uppbyggnad av arenor för samverkan, nätverk, experiment- och testmiljöer, kompetenscentrum, labb och testbäddar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Testlabb Sätterstrand, Material och bearbetningstekniskt laboratorium vid Högskolan Dalarna, Acreo nationell testbädd – teknologier, tjänster och beteende, Material- och konstruktionscentrum vid Karlstads universit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Uppbyggnad av kluster och innovationssystem utifrån regionala profilområden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Future Position X, Fiber Optic Valley Fokusområden, Fiber Optic Valley Processledning, The Packaging Arena, Bic - Compare Business Innovation Centre, TPP Framtidsfabriken, Stärkt konkurrenskraft för stål- och verkstadsindustr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Tillämpad FoU med en stark koppling till utveckling av näringslivet samt främja kommersialiseringen av forskningsresultat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Acreo Fiber Optic Center, Professur inom konsumentdriven förpackningsutveckling, Tjänstefiering med hjälp av använda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Utvecklad samverkan mellan samt teknikspridning och kunskapsöverföring mellan högskolor/universitet/ forskningsinstitut och näringsliv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InnoWent Högskolan Dalarna, Förstärkt samverkan mellan Högskolan i Gävle och regionen för ökad tillväx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2AE9-7844-4670-8D47-A18F3F3572EF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2dafd6"/>
                </a:solidFill>
                <a:latin typeface="Arial"/>
              </a:rPr>
              <a:t>Åtgärd 1.2 Entreprenörskap – huvudsakligt åtgärdsinnehåll</a:t>
            </a:r>
            <a:endParaRPr b="1" lang="en-US" sz="2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Utveckling av besöksnäringen; natur-, kultur- och upplevelseturism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Turistutveckling längs Klarälven, Bergslagssatsningen – Kultur &amp; Turism, Näringslivsutveckling Runn, Hälsingegårdar – världsarv och utveckling, Wij Landskapspark, Förbättring av infrastruktur för rörelsebaserad naturturism, KURBITS – Affärsutveckling för besöksnäringen, UTE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120" indent="-1771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Stöd till inkubatorer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InnoWent Teknikdalen, Inova Evolu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120" indent="-1771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Insatser för att främja kvinnors eller invandrares företagande i regionen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RuTa Fem från samsyn till samordnade handlingar, IFS Tvålänssamverkan, Ramprojekt för kvinnors företagande i Gävleborg, SELMA, W7 Dalarna Entreprenörsk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120" indent="-1771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Rådgivning och erfarenhetsutbyte i frågor gällande affärsutveckling, innovationer, ledarskap, organisation, mentorskap, rekrytering m.m.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Hälsingland for Business, Livskraftigt Företagande, Den företagsamma utvecklingen, Etablera företagsrådgivarna i Gästrikland, BoomTown, Utveckling av tillverkningsindustrin i Norra Dalarna, Genius Loc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DECE-A569-4C04-8CA5-9CF2AF5A4AC5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2dafd6"/>
                </a:solidFill>
                <a:latin typeface="Arial"/>
              </a:rPr>
              <a:t>Åtgärd 1.2 Entreprenörskap – huvudsakligt åtgärdsinnehåll</a:t>
            </a:r>
            <a:endParaRPr b="1" lang="en-US" sz="2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Miljö som affärsmöjlighet för små- och medelstora företag exempelvis insatser för att främja förnyelsebar energi eller affärs- och produktutveckling inom miljöteknik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Exempel på projekt: Hofors Clean Production Centre, SWX-Energi; energieffektivisering och förnybar energi i S, W och X län, Geos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Utveckla regional etableringsservice för att främja utländska investeringar och etableringar i området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Exempel på projekt: INVA Investera i Värmland, Invest in Dalarna Agen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Ramprojekt för företagsstöd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Företagsutveckling i Gävleborgs län, Företagsutveckling i Dalarnas län, Företagsutveckling i Värmlands lä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Kapitalförsörjning till SME via riskkapital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(Exempel på projekt: ALMI Invest Norra Mellansverige, ALMI Invest Västsverige, Värml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1DF1-202F-4DAC-8CEE-66DF9E16794E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3600" y="86148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2dafd6"/>
                </a:solidFill>
                <a:latin typeface="Arial"/>
              </a:rPr>
              <a:t>Åtgärd 2.1 Tillgänglighet – huvudsakligt åtgärdsinnehåll</a:t>
            </a:r>
            <a:endParaRPr b="1" lang="en-US" sz="2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1800" y="1951200"/>
            <a:ext cx="748656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28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Utveckling av kollektivtrafiken och resecentra för att underlätta män och kvinnors vardagspendling mellan arbetsmarknadsregioner, även över länsgränser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xempel på projekt: Dalabanan, förstudie för pendeltågstrafik i Dalarna, Pendlarprojekt Karlstad Hagfors, Ökat tågresande i södra Norrland, Bottniska korridoren, FullKoll, Entré Ludvik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Infrastrukturinvesteringar, med en tydlig miljöprofil, i hamnar, vägar eller järnväg för att utveckla företagsparker, industriområden eller turistiska upplevelseområden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xempel på projekt: Multimodal Terminal Kristinehamn, InUt – Infrastruktursatsningar för näringslivets utveckling och tillväxt, UTI Edsbyn, Utveckling av industriområde i Vålberg, Trafiklösning Norra Värmland – Branäsområdet, Logistikcenter Kalvholmen, Gävle Ham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Investeringar i bredband med hög kapacitet i regionens lands- och glesbygdsområden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Fortsatt bredbandsutbyggnad i Värmland – mobilt bredband, Bredband till 100 %  - Ovanåkers kommun, Bredband till 100% Söderhamns kommun, Bredband till 100% Bollnäs kommun, Vita fläckar i Ockelbo, Bredbandsutbyggnad Gävle kommun, Vita fläckar på bredbandskartan – Sandvikens kommun, Ökad tillgänglighet och säkrare nät – Borlänge-Falun, Fibernät i Säf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2B8D-8EBE-434D-9981-50F020CC5AB0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2dafd6"/>
                </a:solidFill>
                <a:latin typeface="Arial"/>
              </a:rPr>
              <a:t>Åtgärd 2.1 Tillgänglighet – huvudskaligt åtgärdsinnehåll </a:t>
            </a:r>
            <a:br>
              <a:rPr sz="2000"/>
            </a:br>
            <a:endParaRPr b="1" lang="en-US" sz="2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Utveckling av IT-produkter och tjänster för företag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Exempel på projekt: Portalen Handelsplats Werm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Attitydpåverkan för en högre grad av IT-användande i SME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Exempel på projekt: IT-rådgivarna Norra Mellansveri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AE08-C28B-4C94-9E6B-A2B082F8849A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För mer information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Kontaktuppgifter, program, åtgärdsdokument, ansökningsblankett,handledning m.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www.tillvaxtverket.se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0EB1-3CA8-43CD-B7FB-99419564F358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Lissabonsstrategins mål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sv-SE" sz="2000" spc="-1" strike="noStrike">
                <a:solidFill>
                  <a:srgbClr val="000000"/>
                </a:solidFill>
                <a:latin typeface="Arial"/>
              </a:rPr>
              <a:t>EU ska vara den mest konkurrenskraftiga och dynamis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Arial"/>
              </a:rPr>
              <a:t>kunskapsbaserade ekonomin i världen år 2010, byggd p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Arial"/>
              </a:rPr>
              <a:t>social trygghet och hållbar utveckling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32F3-E9CF-410A-B3AF-8E296A84A01D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Strategiska riktlinjer för EU:s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sammanhållningspolitik</a:t>
            </a: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tt göra Europa och dess regioner mer attraktiva att investera och arbet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tt skapa tillväxt genom förbättrad kunskap och innov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Fler och bättre jo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45CC-8579-4EF8-9C86-308DFC9A2B5D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En nationell strategi för regional konkurrenskraft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och sysselsättning 2007-2013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yra nationella prioritering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novation och förny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ompetensförsörjning och ökat arbetskraftsut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illgänglig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trategiskt gränsöverskridande samarb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977B-64BE-49FD-8816-7473129C7087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Regionala strategier viktiga för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genomförandet av strukturfonderna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egionala strategier och tillväxt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 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Tillväxt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Andra utvecklings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5629-5445-44C3-89E6-CAD5285A15B5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20440" y="1104840"/>
            <a:ext cx="70722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sv-SE" sz="2400" spc="-1" strike="noStrike">
                <a:solidFill>
                  <a:srgbClr val="2dafd6"/>
                </a:solidFill>
                <a:latin typeface="Arial"/>
              </a:rPr>
              <a:t>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Åtta regionala strukturfondsprogram</a:t>
            </a:r>
            <a:br>
              <a:rPr sz="2400"/>
            </a:b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1 Övre Nor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2 Mellersta Nor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3 Norra Mellansve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4 Östra Mellansve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5 Stockho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6 Västsve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7 Småland och Öa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8 Skåne-Blek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Karta_utannamn"/>
          <p:cNvPicPr/>
          <p:nvPr/>
        </p:nvPicPr>
        <p:blipFill>
          <a:blip r:embed="rId1"/>
          <a:stretch/>
        </p:blipFill>
        <p:spPr>
          <a:xfrm>
            <a:off x="927000" y="1612800"/>
            <a:ext cx="305748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CCB6-F50E-40A7-8D25-8AAAFE779EB0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Indikativ fördelning av medel från den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Europeiska regionala strukturfonden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Regionala program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Miljoner SEK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K per cap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Övre Norrland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2 183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4 2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ellersta Norrland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1 590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4 2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Norra Mellansverige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1 755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2 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Östra Mellansverige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729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4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tockholm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338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1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ästsverige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572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måland och Öarna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607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7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kåne-Blekinge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636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4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6:10:21Z</dcterms:created>
  <dc:creator>perper</dc:creator>
  <dc:description>Skapad: Mars 2009 i MS Ppt 2003
Av: Carin Ländström, 08-556 014 30
Emanuel Identity Manuals AB</dc:description>
  <cp:keywords>PowerPointmall 2009-03-25</cp:keywords>
  <dc:language>en-US</dc:language>
  <cp:lastModifiedBy>Saga</cp:lastModifiedBy>
  <dcterms:modified xsi:type="dcterms:W3CDTF">2010-04-07T08:14:23Z</dcterms:modified>
  <cp:revision>44</cp:revision>
  <dc:subject/>
  <dc:title>Bild 1</dc:title>
</cp:coreProperties>
</file>