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121-2723-4037-AE66-8E8AE2E1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19000" y="441360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18A-A952-4512-8B33-4F03ED26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4276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170-5B71-4F29-91C8-E07E4B7A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1012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160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1900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1012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160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536-27F5-4E37-A7E8-DDDD3D62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1C06-DEF9-432A-B78F-3E786762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9041-C11F-4C15-93FF-6F774D8A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F229-6E11-42C1-8404-2DBCFBF4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E6E4-DD7A-47E7-9ABD-243BB6E7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F278-6047-4275-AA43-57F049F3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20440" y="1273320"/>
            <a:ext cx="70722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DF56-2DB1-468A-97F1-B7737891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57E6-50F5-4CBC-9CA0-E2BBC35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509-5E6D-4445-8B3D-5BDD48EC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276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3C2E-2A59-4187-A5EB-036029A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81AD-2571-4FB5-B76B-23B4F42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19000" y="441360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160A-5848-4628-A3D0-D8DCFAFF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4276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0D7D-6C4A-486A-9E43-89D92B6C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1012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1600" y="223344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1900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1012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1600" y="4413600"/>
            <a:ext cx="2277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A0E9-E6C2-4EAC-9935-1CD910DF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3D9-78B4-4626-8507-9F8A5AD4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B9F-5C93-479C-90E2-105C0DA0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FC6-F4F5-448B-A2A7-6DA090DF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20440" y="1273320"/>
            <a:ext cx="70722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F26-CCB7-4635-A8CD-636835F6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10E-B9F8-4728-90B2-71B1DC7A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2760" y="441360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9F6-908D-4DDF-B4A9-310CFD8E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2760" y="2233440"/>
            <a:ext cx="34509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19000" y="4413600"/>
            <a:ext cx="7072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A98-E272-4146-ADEE-F37B6439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720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888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TVV"/>
          <p:cNvPicPr/>
          <p:nvPr/>
        </p:nvPicPr>
        <p:blipFill>
          <a:blip r:embed="rId2"/>
          <a:stretch/>
        </p:blipFill>
        <p:spPr>
          <a:xfrm>
            <a:off x="7621560" y="324000"/>
            <a:ext cx="1081080" cy="422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8"/>
          <p:cNvSpPr/>
          <p:nvPr/>
        </p:nvSpPr>
        <p:spPr>
          <a:xfrm>
            <a:off x="447840" y="368280"/>
            <a:ext cx="219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3080" y="6455880"/>
            <a:ext cx="125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9FB8-A1FD-48BD-91F0-69651E8DE79E}" type="datetime">
              <a:rPr b="1" lang="sv-SE" sz="700" spc="-1" strike="noStrike">
                <a:solidFill>
                  <a:srgbClr val="000000"/>
                </a:solidFill>
                <a:latin typeface="Arial"/>
              </a:rPr>
              <a:t>26-07-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71936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989680" y="6455880"/>
            <a:ext cx="107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096A-2B8B-4D6A-A430-D729AE4440AE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Vänsterställd logotyp med »En investering för framtiden«"/>
          <p:cNvPicPr/>
          <p:nvPr/>
        </p:nvPicPr>
        <p:blipFill>
          <a:blip r:embed="rId3"/>
          <a:stretch/>
        </p:blipFill>
        <p:spPr>
          <a:xfrm>
            <a:off x="5835600" y="131760"/>
            <a:ext cx="159084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TVV_monster_sid1"/>
          <p:cNvPicPr/>
          <p:nvPr/>
        </p:nvPicPr>
        <p:blipFill>
          <a:blip r:embed="rId2"/>
          <a:stretch/>
        </p:blipFill>
        <p:spPr>
          <a:xfrm>
            <a:off x="0" y="3817800"/>
            <a:ext cx="9144000" cy="261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TVV"/>
          <p:cNvPicPr/>
          <p:nvPr/>
        </p:nvPicPr>
        <p:blipFill>
          <a:blip r:embed="rId3"/>
          <a:stretch/>
        </p:blipFill>
        <p:spPr>
          <a:xfrm>
            <a:off x="7621560" y="324000"/>
            <a:ext cx="1081080" cy="422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1"/>
          <p:cNvSpPr/>
          <p:nvPr/>
        </p:nvSpPr>
        <p:spPr>
          <a:xfrm>
            <a:off x="447840" y="368280"/>
            <a:ext cx="2190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SWEDISH AGENCY FOR ECONOM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AND REGIONAL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2"/>
          <p:cNvSpPr/>
          <p:nvPr/>
        </p:nvSpPr>
        <p:spPr>
          <a:xfrm>
            <a:off x="431640" y="1006560"/>
            <a:ext cx="871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4"/>
          <p:cNvSpPr/>
          <p:nvPr/>
        </p:nvSpPr>
        <p:spPr>
          <a:xfrm>
            <a:off x="1835280" y="2230560"/>
            <a:ext cx="7305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6" descr="Vänsterställd logotyp med »En investering för framtiden«"/>
          <p:cNvPicPr/>
          <p:nvPr/>
        </p:nvPicPr>
        <p:blipFill>
          <a:blip r:embed="rId4"/>
          <a:stretch/>
        </p:blipFill>
        <p:spPr>
          <a:xfrm>
            <a:off x="5748480" y="139680"/>
            <a:ext cx="1590480" cy="80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fd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720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88840" indent="-17136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88840" indent="-17136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3080" y="6455880"/>
            <a:ext cx="125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3B48-C3A4-4C79-8B2F-D5DAA2115B38}" type="datetime">
              <a:rPr b="1" lang="sv-SE" sz="700" spc="-1" strike="noStrike">
                <a:solidFill>
                  <a:srgbClr val="000000"/>
                </a:solidFill>
                <a:latin typeface="Arial"/>
              </a:rPr>
              <a:t>26-07-30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719360" y="6455880"/>
            <a:ext cx="278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989680" y="6455880"/>
            <a:ext cx="107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2B8B-BFBA-47F3-94C0-D6CFD1C23BE2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2F85-D6AB-41B6-8C2C-A7741B559794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Upplägg presentation – regionala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trukturfondsprogram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tegier till grund för och geografi för de region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kturfondsprogr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förande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graminnehåll  - exempel programmet för Nor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6FF4-F939-4C50-81F6-C66CB103E503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Förvaltande myndighet 2007-2013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illväxtverket - för Europeiska  regionala utvecklingsf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SF-rådet - för Europeiska socialf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0AF9-DF65-451A-BCF9-E134AB5765C7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Organisation för genomförande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illväxtverket som förvaltande myndig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dafd6"/>
                </a:solidFill>
                <a:latin typeface="Arial"/>
              </a:rPr>
              <a:t>-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ogramkontor (8 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gramstöd (Östers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trukturfondspartnerskap (8 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Övervakningskommitté (3 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EDF8-46A5-47EA-9D89-AD9FE2C1E4D9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Arbetsuppgifter Tillväxtverkets programkontor</a:t>
            </a:r>
            <a:br>
              <a:rPr sz="2400"/>
            </a:b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44120" y="1820880"/>
            <a:ext cx="71470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formation, råd och stöd till sök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ntakt med regionala aktörer – Regionförbund m f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ereda ansökningar, göra laglighetsprövning, bedöma överensstämmelse med program, åtgärdsdokument och urvalskriterier, lämna underlag till Strukturfondspartnerska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eslut om projekt enligt Strukturfondspartnerskapets prioriter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anskning av ansökan om utbetal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tbildning av projektä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jektuppfölj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amverkan med ESF-rådet, landsbygdsprogrammet m f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5AA8-C23F-4717-9783-5D5AA0E44C54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Strukturfondspartnerskap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emensamt strukturfondspartnerskap för programprioriteringar för regionala utvecklingsfonden och socialfon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Bestå av politisk representation från kommuner och landsting samt arbetsmarknadens organisationer, representanter för länsstyrelser, arbetsförmedlingen samt social ekono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76C-FEF9-4546-90BB-FFA8AAC6E6BC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Strukturfondspartnerskap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trukturfondspartnerskapens roll regleras genom lag. Partnerskapet skall yttra sig över vilka ansökningar som skall priorite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ioriteringen är bindande för de förvaltande myndigheternas (Tillväxtverket och ESF-rådet) beslut om stö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2833-57B4-4277-BD2C-E8F5289AAA94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2dafd6"/>
                </a:solidFill>
                <a:latin typeface="Arial"/>
              </a:rPr>
              <a:t>Övervakningskommittéerna</a:t>
            </a:r>
            <a:endParaRPr b="1" lang="en-US" sz="32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Övervakningskommittéerna (3 st) ser till att programmen genomfö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illfredsställande genom at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odkänna urvalskriterier, åtgärdsprogram, utvärderingsplan, års- och slutrapporter samt varje förslag till ändring av innehållet i programmen innan det lämnas in till kommissionen för besl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övervaka förverkligandet av målen för program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öreslå förvaltande myndigheten att utföra översyn och genomgång av program i syfte att målen förverkligas eller förvaltningen förbättr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tta beslut om programbudget för tekniskt stöd och göra en årlig övers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E52A-8A01-4140-B7F9-ED70C958123E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Programinnehåll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graminnehåll och programgenomförande – exempel frå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grammet för Nor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gramskivningar och åtgärder (vad som är möjligt att finansi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kiljer sig åt mellan de åtta regionala strukturfondsprogram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en en gemensam nämnare är att programmen fokuserar p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tveckling av innovativa miljöer, entreprenörskap och tillgänglighet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arierande gr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3642-6DBD-48E9-B7F0-23148463BC51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0840" y="1118880"/>
            <a:ext cx="70722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Norra Mellansverige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operativt_program_norra_mellansverige_2007-06-20_122"/>
          <p:cNvPicPr/>
          <p:nvPr/>
        </p:nvPicPr>
        <p:blipFill>
          <a:blip r:embed="rId1"/>
          <a:stretch/>
        </p:blipFill>
        <p:spPr>
          <a:xfrm>
            <a:off x="839880" y="2011320"/>
            <a:ext cx="3600360" cy="3672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-411120" y="70344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584600" y="2036880"/>
            <a:ext cx="38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3 län (Gävleborg, Dalarna och Värmland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41 kommuner</a:t>
            </a:r>
            <a:br>
              <a:rPr sz="1800"/>
            </a:br>
            <a:br>
              <a:rPr sz="1800"/>
            </a:b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820 000 invånare (7 % av rikets befolkning)</a:t>
            </a:r>
            <a:br>
              <a:rPr sz="1800"/>
            </a:br>
            <a:br>
              <a:rPr sz="1800"/>
            </a:b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63987 kvadratkilometer (16 % av rikets landareal)</a:t>
            </a:r>
            <a:br>
              <a:rPr sz="1800"/>
            </a:br>
            <a:br>
              <a:rPr sz="1800"/>
            </a:br>
            <a:r>
              <a:rPr b="1" lang="sv-SE" sz="1800" spc="-1" strike="noStrike">
                <a:solidFill>
                  <a:srgbClr val="2dafd6"/>
                </a:solidFill>
                <a:latin typeface="Arial"/>
              </a:rPr>
              <a:t>13 personer per km2 (riket 22 invånare per k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C58E-2F9F-4B75-ACF0-EA235D2F2E78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2dafd6"/>
                </a:solidFill>
                <a:latin typeface="Arial"/>
              </a:rPr>
              <a:t>Programmets övergripande mål</a:t>
            </a:r>
            <a:endParaRPr b="1" lang="en-US" sz="32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19360" y="2233440"/>
            <a:ext cx="6735600" cy="37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”’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tt utveckla innovativa miljöer, främja ett dynamiskt näringsliv och att öka tillgängligheten för regionens näringsliv och invån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grammet ska bidra t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3000 nya föret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6000 nya arbetstill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F80-FF80-461D-9940-2120146ECC85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Programmets insatsområden, åtgärder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och budget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. Näringslivsutveckling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190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vara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.1 Innovativa miljöe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49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.2 Entreprenörskap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69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2. Tillgänglighet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49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vara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2.1 Tillgänglighet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49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3. Tekniskt stöd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70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vara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3.1 Tekniskt stöd 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70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umma: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755 mk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1B4B-1CAF-4E80-B419-4C742B1B186B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EU:s samanhållningspolitik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06400" y="2014200"/>
            <a:ext cx="707256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Konver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Konkurrenskraft och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sysselsätt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onvergence Objective and European Regional Competitiveness and Employment Objective"/>
          <p:cNvPicPr/>
          <p:nvPr/>
        </p:nvPicPr>
        <p:blipFill>
          <a:blip r:embed="rId1"/>
          <a:stretch/>
        </p:blipFill>
        <p:spPr>
          <a:xfrm>
            <a:off x="1643040" y="2087640"/>
            <a:ext cx="44784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DC42-0723-45B1-B939-77C5BD576D15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Stödnivå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50 % av total offentlig finansi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4FD-6E45-4473-8F7D-884ADFD93C98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Vilka kan söka medel från de regionala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 strukturfondsprogrammen?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ffentliga aktörer (kommuner, landsting, regionförbund, statliga myndigh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niversitet, högskolor, forskningsinstit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konomiska och ideella föreningar, stiftel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837C-BD74-4DE5-95DE-10E2FCA6CA2A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Vad krävs för att en projektansökan ska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bli godkänd?</a:t>
            </a: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jektet s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ara i linje med programmets insatsområden och urvalskrite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ppfylla EU:s och nationella förordnin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a nationell medfinansi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CA3B-2171-4CBF-9194-5C6CE7DDD7EB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Programgenomförandet 2007-2009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ycket stort intresse för det regionala strukturfondsprogrammet – 316 ansökningar för drygt 2 miljarder k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grammet har en hög beslutsnivå med 198 beviljade projekt för sammanlagt 1089 mk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gional förberedelse inför programstart – de tre regionförbunden finansierade under våren 2007 nästan 90 förstudier varav många blivit regionalfondsproje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gionen har tidigare erfarenhet av strukturfondsprogram – Mål 2 Norra, Mål 2 Västra och Mål 1 Södra (endast en ny kommun - Karlst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gramkontoret har lagt mycket tid på informationsinsats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79F4-EB01-45C3-ABC2-4E3491BA6B57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31600" y="1547280"/>
            <a:ext cx="70722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Jämförelse programperioden 2000-2006 (Mål 2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Norra) med perioden 2007-2013 (Norra Mellan-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verige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Tenden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törre projekt i nuvarande programperiod. Medelvärdet för beviljat belopp per projekt är 5,5 mkr i nuvarande programperiod (i Mål 2 Norra var medelvärdet 2,5 mk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jekten verkar i större geografiska områden – från en kommunala projekt till fler kommunala projekt och regionala projekt. Fler projekt över regionsgränserna i Nor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ydligare och mer fokuserat program i nuvarande programperi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 Mer fokus på innovativa miljöer – satsningar på kluster &amp; innovationssystem, tillämpad F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Kraftfull satsning på riskkapital för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Större kraftfulla infrastruktursatsningar till nytta för näringsliv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970B-BE5A-4680-A9FD-C1210E2DA050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06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Beslutat belopp i procent av program-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budget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0920" y="2187360"/>
            <a:ext cx="72802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Åtgärd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 Budget 2007-2013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Beslutat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  % av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.1 Innovativa miljöer    495.000.000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315.688.814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56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.2 Entreprenörskap      695.000.000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442.811.740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88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2.1 Tillgänglighet            495.000.000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331.418.529 k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6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54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umma: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    1.685.000.000 kr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1.089.919.083 kr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6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(198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5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FEDB-CB9B-4BF8-AAE8-C634A791804B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82280" y="1079280"/>
            <a:ext cx="71103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Indikatorer (förväntat resultat från 165 beviljade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projekt samt utfall slutredovisade projekt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t.o.m 2009-04-30)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9400" y="2363760"/>
            <a:ext cx="711216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Åtgärd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Programmål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Förväntat resultat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Redovisat resultat slu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beviljade projekt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redovisade proje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500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003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81 nya arbetstillfä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500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66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0 nya före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4000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3817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2500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936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500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346 nya arbetstillfällen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49 nya företag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10.502 hushåll och 100 företag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har fått möjlig tillgång till 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bredbandsanslu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8371-234B-497D-9EF7-1E516A46ECBD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Urvalskriterier för projekt Norra Mellansverige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dikatorer (skapade arbetstillfällen och nya föret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orisontella kriterier för hållbar utvec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Jämställd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Integration/mångf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Milj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ivat medfinansiering (likvida medel) och näringslivets medver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Åtgärdsspecifika urvalskrite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7FCB-7D39-48FA-BB73-0889BAA271BB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Ex åtgärdsspecifika urvalskriterier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19000" y="2070000"/>
            <a:ext cx="707220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172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Åtgärd 1.1 Innovativa miljö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ad av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amverkan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forskning, högskolor/universitet, näringsliv och samhä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Långsiktig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ad av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nnovation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och teknisk utvec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ad av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nyskapande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nya arbetsmetoder och samverkansfor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Marknadskop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nternationell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Koppling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, avgränsning och interaktion till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ndra projekt/program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regionalt och nationel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Gränsöverskridande samarbeten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region, nation och internationel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-17172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pridning av resultat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målgrupp, lärande, utvärdering och met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9267-0D12-4BF1-B530-E7630334C654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Horisontella kriterier - jämställdhe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arje projekt inom regionalfondsprogrammet ska beskriva hur 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rbetar med jämställdhet och besvara följande fyra fråg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ilka mätbara mål finns avseende jämställdhet i projekt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ilka aktiviteter planeras för att nå målen när det gäller jämställdh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å vilket sätt påverkar projektets resultat och effekter jämställdh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125"/>
              </a:spcAft>
              <a:buClr>
                <a:srgbClr val="2dafd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ur kommer projektet kvinnor och män till godo vad gäller företagande och arbetstillfäl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4751-7BDA-4075-B147-364D589A7B4B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trategier som ligger till grund för de regionala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trukturfondsprogrammen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80840" y="20318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U niv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sabonstrategin och sammanhållningspolit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Nationell niv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250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ationella strat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Regional niv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  RTP och R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855C-D936-452C-A28A-1655F0BC81BD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Horisontella kriterier - jämställdhet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tifrån projektets beskrivning bedöms projektet påverkan p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Jämställdhe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yftar direkt till att öka jämställdh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ar en övervägande positiv påverkan ur ett jämställdhetsperspe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ar en övervägande negativ påverkan ur ett jämställdhetsperspe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Liknande bedömningar görs även för de horisontella kriterierna milj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ch integration/mångf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D414-C361-4710-B2A3-3251F575B619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1.1 Innovativa miljöer – huvudsakligt åtgärdsinnehåll</a:t>
            </a:r>
            <a:br>
              <a:rPr sz="2000"/>
            </a:b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44560" y="1969920"/>
            <a:ext cx="70725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4520" indent="-164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ppbyggnad av arenor för samverkan, nätverk, experiment- och testmiljöer, kompetenscentrum, labb och testbäddar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Testlabb Sätterstrand, Material och bearbetningstekniskt laboratorium vid Högskolan Dalarna, Acreo nationell testbädd – teknologier, tjänster och beteende, Material- och konstruktionscentrum vid Karlstads universit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ppbyggnad av kluster och innovationssystem utifrån regionala profilområden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Future Position X, Fiber Optic Valley Fokusområden, Fiber Optic Valley Processledning, The Packaging Arena, Bic - Compare Business Innovation Centre, TPP Framtidsfabriken, Stärkt konkurrenskraft för stål- och verkstadsindustr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Tillämpad FoU med en stark koppling till utveckling av näringslivet samt främja kommersialiseringen av forskningsresultat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Acreo Fiber Optic Center, Professur inom konsumentdriven förpackningsutveckling, Tjänstefiering med hjälp av använda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tvecklad samverkan mellan samt teknikspridning och kunskapsöverföring mellan högskolor/universitet/ forskningsinstitut och näringsliv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InnoWent Högskolan Dalarna, Förstärkt samverkan mellan Högskolan i Gävle och regionen för ökad tillvä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6D2-768C-4B2D-A740-7E25A94ED9C0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1.2 Entreprenörskap – huvudsakligt åtgärdsinnehåll</a:t>
            </a: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tveckling av besöksnäringen; natur-, kultur- och upplevelseturism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Turistutveckling längs Klarälven, Bergslagssatsningen – Kultur &amp; Turism, Näringslivsutveckling Runn, Hälsingegårdar – världsarv och utveckling, Wij Landskapspark, Förbättring av infrastruktur för rörelsebaserad naturturism, KURBITS – Affärsutveckling för besöksnäringen, UT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töd till inkubatorer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InnoWent Teknikdalen, Inova Evolu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Insatser för att främja kvinnors eller invandrares företagande i regionen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RuTa Fem från samsyn till samordnade handlingar, IFS Tvålänssamverkan, Ramprojekt för kvinnors företagande i Gävleborg, SELMA, W7 Dalarna Entreprenörsk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120" indent="-1771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Rådgivning och erfarenhetsutbyte i frågor gällande affärsutveckling, innovationer, ledarskap, organisation, mentorskap, rekrytering m.m.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Hälsingland for Business, Livskraftigt Företagande, Den företagsamma utvecklingen, Etablera företagsrådgivarna i Gästrikland, BoomTown, Utveckling av tillverkningsindustrin i Norra Dalarna, Genius Loc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70CC-4009-4CE1-8D31-C127CFF71FDE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1.2 Entreprenörskap – huvudsakligt åtgärdsinnehåll</a:t>
            </a: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Miljö som affärsmöjlighet för små- och medelstora företag exempelvis insatser för att främja förnyelsebar energi eller affärs- och produktutveckling inom miljöteknik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Exempel på projekt: Hofors Clean Production Centre, SWX-Energi; energieffektivisering och förnybar energi i S, W och X län, Geos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tveckla regional etableringsservice för att främja utländska investeringar och etableringar i området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Exempel på projekt: INVA Investera i Värmland, Invest in Dalarna Age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Ramprojekt för företagsstöd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Företagsutveckling i Gävleborgs län, Företagsutveckling i Dalarnas län, Företagsutveckling i Värmlands lä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001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Kapitalförsörjning till SME via riskkapital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 (Exempel på projekt: ALMI Invest Norra Mellansverige, ALMI Invest Västsverige, Värml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9D4B-9339-4640-9774-71B79F0171A3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3600" y="86148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2.1 Tillgänglighet – huvudsakligt åtgärdsinnehåll</a:t>
            </a: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1800" y="1951200"/>
            <a:ext cx="748656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28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Utveckling av kollektivtrafiken och resecentra för att underlätta män och kvinnors vardagspendling mellan arbetsmarknadsregioner, även över länsgränser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empel på projekt: Dalabanan, förstudie för pendeltågstrafik i Dalarna, Pendlarprojekt Karlstad Hagfors, Ökat tågresande i södra Norrland, Bottniska korridoren, FullKoll, Entré Ludvik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Infrastrukturinvesteringar, med en tydlig miljöprofil, i hamnar, vägar eller järnväg för att utveckla företagsparker, industriområden eller turistiska upplevelseområden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empel på projekt: Multimodal Terminal Kristinehamn, InUt – Infrastruktursatsningar för näringslivets utveckling och tillväxt, UTI Edsbyn, Utveckling av industriområde i Vålberg, Trafiklösning Norra Värmland – Branäsområdet, Logistikcenter Kalvholmen, Gävle Ham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80000"/>
              </a:lnSpc>
              <a:spcAft>
                <a:spcPts val="876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Investeringar i bredband med hög kapacitet i regionens lands- och glesbygdsområden 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(Exempel på projekt: Fortsatt bredbandsutbyggnad i Värmland – mobilt bredband, Bredband till 100 %  - Ovanåkers kommun, Bredband till 100% Söderhamns kommun, Bredband till 100% Bollnäs kommun, Vita fläckar i Ockelbo, Bredbandsutbyggnad Gävle kommun, Vita fläckar på bredbandskartan – Sandvikens kommun, Ökad tillgänglighet och säkrare nät – Borlänge-Falun, Fibernät i Säf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128520" indent="0">
              <a:lnSpc>
                <a:spcPct val="80000"/>
              </a:lnSpc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E5A5-4590-4452-B5B0-C3BC3AE0687D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2dafd6"/>
                </a:solidFill>
                <a:latin typeface="Arial"/>
              </a:rPr>
              <a:t>Åtgärd 2.1 Tillgänglighet – huvudskaligt åtgärdsinnehåll </a:t>
            </a:r>
            <a:br>
              <a:rPr sz="2000"/>
            </a:br>
            <a:endParaRPr b="1" lang="en-US" sz="20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Utveckling av IT-produkter och tjänster för företag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Exempel på projekt: Portalen Handelsplats Werm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Aft>
                <a:spcPts val="1125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Attitydpåverkan för en högre grad av IT-användande i SME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Exempel på projekt: IT-rådgivarna Norra Mellansveri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499C-C583-4F42-A760-956DF73BB0AA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För mer information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Kontaktuppgifter, program, åtgärdsdokument, ansökningsblankett,handledning m.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lnSpc>
                <a:spcPct val="10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www.tillvaxtverket.se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355B-78BC-4266-91BE-D6635CD18FBA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2dafd6"/>
                </a:solidFill>
                <a:latin typeface="Arial"/>
              </a:rPr>
              <a:t>Lissabonsstrategins mål</a:t>
            </a:r>
            <a:endParaRPr b="1" lang="en-US" sz="28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EU ska vara den mest konkurrenskraftiga och dynamis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kunskapsbaserade ekonomin i världen år 2010, byggd p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social trygghet och hållbar utveckling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829C-B0F3-4CA8-BC04-3E70AA8A5E1B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trategiska riktlinjer för EU:s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sammanhållningspolitik</a:t>
            </a: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tt göra Europa och dess regioner mer attraktiva att investera och arbet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tt skapa tillväxt genom förbättrad kunskap och inno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500"/>
              </a:spcAft>
              <a:buClr>
                <a:srgbClr val="2daf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ler och bättre jo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7583-7E12-47C2-AD4C-C85A68FF9F98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En nationell strategi för regional konkurrenskraft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och sysselsättning 2007-2013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yra nationella prioritering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novation och förny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mpetensförsörjning och ökat arbetskraftsut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illgänglig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trategiskt gränsöverskridande samarb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8EC3-BE86-47DD-95B7-61BA5077B969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Regionala strategier viktiga för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genomförandet av strukturfonderna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ionala strategier och tillväxt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 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Tillväxt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- Andra utvecklings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E359-109F-40AB-B26E-A8E98C47C066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20440" y="1104840"/>
            <a:ext cx="70722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v-SE" sz="2400" spc="-1" strike="noStrike">
                <a:solidFill>
                  <a:srgbClr val="2dafd6"/>
                </a:solidFill>
                <a:latin typeface="Arial"/>
              </a:rPr>
              <a:t>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Åtta regionala strukturfondsprogram</a:t>
            </a:r>
            <a:br>
              <a:rPr sz="2400"/>
            </a:b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1 Övre Nor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2 Mellersta Nor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3 Nor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4 Östra Mellan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5 Stockho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6 Väst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7 Småland och Ö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2dafd6"/>
                </a:solidFill>
                <a:latin typeface="Arial"/>
              </a:rPr>
              <a:t>8 Skåne-Blek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arta_utannamn"/>
          <p:cNvPicPr/>
          <p:nvPr/>
        </p:nvPicPr>
        <p:blipFill>
          <a:blip r:embed="rId1"/>
          <a:stretch/>
        </p:blipFill>
        <p:spPr>
          <a:xfrm>
            <a:off x="927000" y="1612800"/>
            <a:ext cx="305748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tshållare för bildnummer 5"/>
          <p:cNvSpPr/>
          <p:nvPr/>
        </p:nvSpPr>
        <p:spPr>
          <a:xfrm>
            <a:off x="5989680" y="64562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C16E-1704-4A14-B1D4-1C00E2358F0D}" type="slidenum">
              <a:rPr b="1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20440" y="1273320"/>
            <a:ext cx="70722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Indikativ fördelning av medel från den </a:t>
            </a:r>
            <a:br>
              <a:rPr sz="2400"/>
            </a:br>
            <a:r>
              <a:rPr b="1" lang="sv-SE" sz="2400" spc="-1" strike="noStrike">
                <a:solidFill>
                  <a:srgbClr val="2dafd6"/>
                </a:solidFill>
                <a:latin typeface="Arial"/>
              </a:rPr>
              <a:t>Europeiska regionala strukturfonden</a:t>
            </a:r>
            <a:endParaRPr b="1" lang="en-US" sz="2400" spc="-1" strike="noStrike">
              <a:solidFill>
                <a:srgbClr val="2dafd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19000" y="2233440"/>
            <a:ext cx="707220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Regionala program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Miljoner SEK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K per ca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Övre Norrland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 183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 2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ellersta Norrland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 590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 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Norra Mellansverige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 755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Östra Mellansverige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729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4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tockholm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338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1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ästsverige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572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måland och Öarna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607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7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kåne-Blekinge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636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6:10:21Z</dcterms:created>
  <dc:creator>perper</dc:creator>
  <dc:description>Skapad: Mars 2009 i MS Ppt 2003
Av: Carin Ländström, 08-556 014 30
Emanuel Identity Manuals AB</dc:description>
  <cp:keywords>PowerPointmall 2009-03-25</cp:keywords>
  <dc:language>en-US</dc:language>
  <cp:lastModifiedBy>Saga</cp:lastModifiedBy>
  <dcterms:modified xsi:type="dcterms:W3CDTF">2010-04-07T08:14:23Z</dcterms:modified>
  <cp:revision>44</cp:revision>
  <dc:subject/>
  <dc:title>Bild 1</dc:title>
</cp:coreProperties>
</file>