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8B1-B8C6-4076-BBA0-6E47E744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3DA-FAF6-4E28-8D47-91BEC7DF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5D2-4556-4712-B398-BE6ADE15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272-0E11-4DD6-A21D-F1AB9D0C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EA5-5E5E-40A9-8B59-BE12363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9E6-8E7B-461D-AEBB-B148F6EF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04E-FC03-4ED2-AAA5-809A00E1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C34-3DD8-44F9-AEA5-19F68ACE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FDE-BAFB-4B10-939A-4693152B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7CC-4168-492E-908E-9C88AB08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AEC-2712-43CE-BCD7-F5EBEE77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24A-86F8-450D-9A3D-F69EE4CD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0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7FD5-ED9B-4D8C-AF71-3BB827841E9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57200" y="42670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wa Ruminska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Zimny, Warsaw School of Economics, Po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Ewa.a.ruminska@gmail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INNET8 Final Conference , Kastoria, Greece 12-14 September 201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80880" y="12193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cc66"/>
                </a:solidFill>
                <a:latin typeface="Times New Roman"/>
              </a:rPr>
              <a:t>Challenges for Regional Policy: a Gender Perspecti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How to do it 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ore knowledge and evidence that gender equality („female factor”) is also a key to growth and new Europe 20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ore dialogue with economists and policy makers to bridge between gender and economic world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ore policy oriented research, arguments and gender dissagregated da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Also introducing gender to university teaching on economics; trainings for economic policy maker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WINNET 8 potential– a new approach, focus and platform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ultilevel – regional, national and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ultistakeholder–academia/research, private enterprise, public sector (triple) and civil society (quadruple helix mode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Focus on innovation and entrepreneu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rength of  Women Resource Centers (WR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etworks between Baltic region and beyo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What WINNET 8 could do next</a:t>
            </a: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xtending thematic areas to economic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Advancing policy oriented research on gender and economic in national/regional/local  context  and EU Strategies (Europe 2020, Cohesion Policy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aising awareness and dialogue with policy makers at local, national and Eu level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veloping academic courses on economics of gender, summer schools for economists and policy makers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uiling networks between EU members and neighbouring countries to promote economic case for gender e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he crisis is a wake up call that Europe cannot affort to waste women’s economic potential in planning long-term recove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his requires gender-sensitive policies not only in social but also in economic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INNET 8 could make a differ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Ewa.a.ruminska@gmai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Europe in 2020: Challenges for Regional Polic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mart, sustainable and inclusive 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nowledge and innovation as driving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romoting competitiveness and conver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reating jobs and raising entrepreneur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ey role of territorial cohesion and regional policy in building Europe 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"/>
              </a:rPr>
              <a:t>Gender equality is central to meet 2020 Challenges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omen are the main source of new labour –(quantity input GDP growth, target 75%empl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bilizng all talents (quality inputs GDP) – diversity factor in innovation, entrepreneurship, production, manag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Demographic context– aging but also a reversal of relation work –fert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510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-152280" y="838080"/>
            <a:ext cx="96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  <a:ea typeface="Arial"/>
              </a:rPr>
              <a:t>Preventing the decline in workforce (EU-2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66"/>
                </a:solidFill>
                <a:latin typeface="Arial"/>
              </a:rPr>
              <a:t>Women’s education level and professional position</a:t>
            </a:r>
            <a:br>
              <a:rPr sz="2800"/>
            </a:br>
            <a:r>
              <a:rPr b="1" lang="pl-PL" sz="28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pl-PL" sz="1800" spc="-1" strike="noStrike">
                <a:solidFill>
                  <a:srgbClr val="ffcc66"/>
                </a:solidFill>
                <a:latin typeface="Arial"/>
              </a:rPr>
              <a:t>shares:  tertiary eduction %; and senior management %; </a:t>
            </a:r>
            <a:r>
              <a:rPr b="1" lang="pl-PL" sz="1600" spc="-1" strike="noStrike">
                <a:solidFill>
                  <a:srgbClr val="ffcc66"/>
                </a:solidFill>
                <a:latin typeface="Arial"/>
              </a:rPr>
              <a:t>2005</a:t>
            </a:r>
            <a:r>
              <a:rPr b="1" lang="pl-PL" sz="1800" spc="-1" strike="noStrike">
                <a:solidFill>
                  <a:srgbClr val="ffcc66"/>
                </a:solidFill>
                <a:latin typeface="Arial"/>
              </a:rPr>
              <a:t>)</a:t>
            </a:r>
            <a:r>
              <a:rPr b="1" lang="pl-PL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624852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ldbank Edstats, ILO Labor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7913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How gender equality is reflected in key EU initiatives 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Visible in preambles (as core value), but marginalized in core action oriented parts of Europe 2020, European Recovery Plan, 5th Cohes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Entry points” for gender are social and not economic parts of strategies like for ex. „stronger economy”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This means that gender equality remains outside policy priorities – and funding – which focus on economic aspects related to innovation, R&amp;D, energy efficiency, green economy or S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cc66"/>
                </a:solidFill>
                <a:latin typeface="Arial"/>
              </a:rPr>
              <a:t>Gender in the EU 5th Cohesion Report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solated sections in ch. III (3.7) and ch. IV (3) under well being of EU citizens (some reference to women’s contribution to growth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o gender perspective in ch. I and II on sources of growth, human capital, national polic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nly one map (tertiary education) with gender dissagregated data ---  out of 108 maps, 78 figures and 10 tables (despite availability of data at EUROSTA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en countries take decisions on policy priorities for 2013-2020 they will not be informed how central is gender equality for Europe 20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And how to adequately reflect it in allocating 1/3 of EU budget (in 2000-2006  only 7% of total financing from the European Social Fund went for gender incl reconcilliation meas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Lost in translation” –why there is no gender link 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Few women in decision making --only in some member countries above 35% in Parliaments –in Sweden at par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ut a key is the view that gender equality is only a fairness issue –no concern to economists and economic policy ma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ender (from a perspective of a Minister of Finace) is a cost to GDP and not an investment. Kindergardens lose against football stadiums during budgetary cu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ender and economics are two separate worlds – diffferent frameworks, language, platforms for dialogue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ile gender „people” talk equality in rights terms the economists talk GDP growth, productivity, returns on investments, innovation et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Arial"/>
              </a:rPr>
              <a:t>A shift in a minset is needed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conomists still draw on the conceptal framework described by Adam Smith in XVIII when women stayed at home and men worked in th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npaid work is excluded from economics – its models, institutions and poli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conomics reflects in fact only a male perspective – men’s inputs to GDP and priorities in its distribu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oday, women work in the market and at home – economics has to embody this change. This is a challenge at academic/theory and practical/policy grounds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5:22:58Z</dcterms:created>
  <dc:creator>Segre</dc:creator>
  <dc:description/>
  <dc:language>en-US</dc:language>
  <cp:lastModifiedBy>ardkar1103</cp:lastModifiedBy>
  <dcterms:modified xsi:type="dcterms:W3CDTF">2011-10-04T21:46:51Z</dcterms:modified>
  <cp:revision>440</cp:revision>
  <dc:subject/>
  <dc:title>EC Social Agenda and ECE work</dc:title>
</cp:coreProperties>
</file>