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9979025" cy="6832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799B-3C2F-4AEA-93FC-B16B64F1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635B-DB97-4A7E-A603-46CDACEB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B8A9-F05B-4598-869C-2813831F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7B6C-37B5-4669-B57D-864849F0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6BFA-1722-40CC-91D4-84B3F2CA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8F66-F53C-40D0-A237-3EA07AF9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409C-499E-454F-8ED3-5E46D4EB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64B5-D55D-4A87-8361-919C0B1F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170C-660A-48B8-8896-DFDE41F8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4427-C055-4E29-B40B-2F96E945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F22D-CB77-433D-ACC8-824B83A4A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089D-9954-4E52-B336-C82264BC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0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C48C-D019-4AE5-8D6B-DF9151FAB4A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457200" y="42670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wa Ruminska</a:t>
            </a:r>
            <a:r>
              <a:rPr b="1" i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i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Zimny, Warsaw School of Economics, Po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ffff"/>
                </a:solidFill>
                <a:latin typeface="Times New Roman"/>
              </a:rPr>
              <a:t>Ewa.a.ruminska@gmail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INNET8 Final Conference , Kastoria, Greece 12-14 September 2011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380880" y="121932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cc66"/>
                </a:solidFill>
                <a:latin typeface="Times New Roman"/>
              </a:rPr>
              <a:t>Challenges for Regional Policy: a Gender Perspectiv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cc66"/>
                </a:solidFill>
                <a:latin typeface="Arial"/>
              </a:rPr>
              <a:t>How to do it ?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More knowledge and evidence that gender equality („female factor”) is also a key to growth and new Europe 2020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More dialogue with economists and policy makers to bridge between gender and economic worlds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More policy oriented research, arguments and gender dissagregated dat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Also introducing gender to university teaching on economics; trainings for economic policy makers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cc66"/>
                </a:solidFill>
                <a:latin typeface="Arial"/>
              </a:rPr>
              <a:t>WINNET 8 potential– a new approach, focus and platform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Multilevel – regional, national and lo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Multistakeholder–academia/research, private enterprise, public sector (triple) and civil society (quadruple helix model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Focus on innovation and entrepreneu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trength of  Women Resource Centers (WR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Networks between Baltic region and beyo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cc66"/>
                </a:solidFill>
                <a:latin typeface="Arial"/>
              </a:rPr>
              <a:t>What WINNET 8 could do next</a:t>
            </a:r>
            <a:r>
              <a:rPr b="0" lang="pl-PL" sz="4400" spc="-1" strike="noStrike">
                <a:solidFill>
                  <a:srgbClr val="ffcc66"/>
                </a:solidFill>
                <a:latin typeface="Arial"/>
              </a:rPr>
              <a:t> 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xtending thematic areas to economic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Advancing policy oriented research on gender and economic in national/regional/local  context  and EU Strategies (Europe 2020, Cohesion Policy et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aising awareness and dialogue with policy makers at local, national and Eu level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eveloping academic courses on economics of gender, summer schools for economists and policy makers etc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Builing networks between EU members and neighbouring countries to promote economic case for gender equ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cc66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The crisis is a wake up call that Europe cannot affort to waste women’s economic potential in planning long-term recove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This requires gender-sensitive policies not only in social but also in economic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WINNET 8 could make a differe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cc66"/>
                </a:solidFill>
                <a:latin typeface="Arial"/>
              </a:rPr>
              <a:t>Thank you 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Ewa.a.ruminska@gmail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cc66"/>
                </a:solidFill>
                <a:latin typeface="Arial"/>
              </a:rPr>
              <a:t>Europe in 2020: Challenges for Regional Policy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mart, sustainable and inclusive Eur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Knowledge and innovation as driving fo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Promoting competitiveness and converg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Creating jobs and raising entrepreneurshi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Key role of territorial cohesion and regional policy in building Europe 20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c66"/>
                </a:solidFill>
                <a:latin typeface="Arial"/>
              </a:rPr>
              <a:t>Gender equality is central to meet 2020 Challenges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Women are the main source of new labour –(quantity input GDP growth, target 75%empl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Mobilizng all talents (quality inputs GDP) – diversity factor in innovation, entrepreneurship, production, managem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Demographic context– aging but also a reversal of relation work –fertil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458200" cy="51055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-152280" y="838080"/>
            <a:ext cx="96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66"/>
                </a:solidFill>
                <a:latin typeface="Arial"/>
                <a:ea typeface="Arial"/>
              </a:rPr>
              <a:t>Preventing the decline in workforce (EU-2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cc66"/>
                </a:solidFill>
                <a:latin typeface="Arial"/>
              </a:rPr>
              <a:t>Women’s education level and professional position</a:t>
            </a:r>
            <a:br>
              <a:rPr sz="2800"/>
            </a:br>
            <a:r>
              <a:rPr b="1" lang="pl-PL" sz="2800" spc="-1" strike="noStrike">
                <a:solidFill>
                  <a:srgbClr val="ffcc66"/>
                </a:solidFill>
                <a:latin typeface="Arial"/>
              </a:rPr>
              <a:t>(</a:t>
            </a:r>
            <a:r>
              <a:rPr b="1" lang="pl-PL" sz="1800" spc="-1" strike="noStrike">
                <a:solidFill>
                  <a:srgbClr val="ffcc66"/>
                </a:solidFill>
                <a:latin typeface="Arial"/>
              </a:rPr>
              <a:t>shares:  tertiary eduction %; and senior management %; </a:t>
            </a:r>
            <a:r>
              <a:rPr b="1" lang="pl-PL" sz="1600" spc="-1" strike="noStrike">
                <a:solidFill>
                  <a:srgbClr val="ffcc66"/>
                </a:solidFill>
                <a:latin typeface="Arial"/>
              </a:rPr>
              <a:t>2005</a:t>
            </a:r>
            <a:r>
              <a:rPr b="1" lang="pl-PL" sz="1800" spc="-1" strike="noStrike">
                <a:solidFill>
                  <a:srgbClr val="ffcc66"/>
                </a:solidFill>
                <a:latin typeface="Arial"/>
              </a:rPr>
              <a:t>)</a:t>
            </a:r>
            <a:r>
              <a:rPr b="1" lang="pl-PL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371600" y="624852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Source: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ldbank Edstats, ILO Labors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579132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cc66"/>
                </a:solidFill>
                <a:latin typeface="Arial"/>
              </a:rPr>
              <a:t>How gender equality is reflected in key EU initiatives ?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Visible in preambles (as core value), but marginalized in core action oriented parts of Europe 2020, European Recovery Plan, 5th Cohesion 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Entry points” for gender are social and not economic parts of strategies like for ex. „stronger economy”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This means that gender equality remains outside policy priorities – and funding – which focus on economic aspects related to innovation, R&amp;D, energy efficiency, green economy or S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cc66"/>
                </a:solidFill>
                <a:latin typeface="Arial"/>
              </a:rPr>
              <a:t>Gender in the EU 5th Cohesion Report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solated sections in ch. III (3.7) and ch. IV (3) under well being of EU citizens (some reference to women’s contribution to growth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o gender perspective in ch. I and II on sources of growth, human capital, national polic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nly one map (tertiary education) with gender dissagregated data ---  out of 108 maps, 78 figures and 10 tables (despite availability of data at EUROSTAT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hen countries take decisions on policy priorities for 2013-2020 they will not be informed how central is gender equality for Europe 20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And how to adequately reflect it in allocating 1/3 of EU budget (in 2000-2006  only 7% of total financing from the European Social Fund went for gender incl reconcilliation measur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c66"/>
                </a:solidFill>
                <a:latin typeface="Arial"/>
              </a:rPr>
              <a:t>„</a:t>
            </a:r>
            <a:r>
              <a:rPr b="0" lang="pl-PL" sz="2800" spc="-1" strike="noStrike">
                <a:solidFill>
                  <a:srgbClr val="ffcc66"/>
                </a:solidFill>
                <a:latin typeface="Arial"/>
              </a:rPr>
              <a:t>Lost in translation” –why there is no gender link ?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Few women in decision making --only in some member countries above 35% in Parliaments –in Sweden at parit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But a key is the view that gender equality is only a fairness issue –no concern to economists and economic policy mak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Gender (from a perspective of a Minister of Finace) is a cost to GDP and not an investment. Kindergardens lose against football stadiums during budgetary cu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Gender and economics are two separate worlds – diffferent frameworks, language, platforms for dialogue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hile gender „people” talk equality in rights terms the economists talk GDP growth, productivity, returns on investments, innovation et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c66"/>
                </a:solidFill>
                <a:latin typeface="Arial"/>
              </a:rPr>
              <a:t>A shift in a minset is needed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conomists still draw on the conceptal framework described by Adam Smith in XVIII when women stayed at home and men worked in the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npaid work is excluded from economics – its models, institutions and poli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conomics reflects in fact only a male perspective – men’s inputs to GDP and priorities in its distribu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Today, women work in the market and at home – economics has to embody this change. This is a challenge at academic/theory and practical/policy grounds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8T15:22:58Z</dcterms:created>
  <dc:creator>Segre</dc:creator>
  <dc:description/>
  <dc:language>en-US</dc:language>
  <cp:lastModifiedBy>ardkar1103</cp:lastModifiedBy>
  <dcterms:modified xsi:type="dcterms:W3CDTF">2011-10-04T21:46:51Z</dcterms:modified>
  <cp:revision>440</cp:revision>
  <dc:subject/>
  <dc:title>EC Social Agenda and ECE work</dc:title>
</cp:coreProperties>
</file>