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38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dafd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1960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E9B1-C57F-4CCC-B1B2-B9F664604F00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B418-B2BF-4A43-84BF-D9E081FB67EE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24E6-E362-41A3-A507-5164B71D5F5C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tshållare för bildnumm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2F8B-E52D-4339-B02A-1DF85B1AEE10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6349-E7F4-4327-A6D8-63F26CCBA15E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tshållare för bildnumm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0038-456C-4F6F-AEF0-C9AE4BA2FC07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7196-B3FC-4CF2-B3D2-5D2C8D7D1E27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6778-5FB2-4576-981C-52D7934E6110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tshållare för bildnumm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5742-54AB-4AC5-8EF1-73745283DB63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409C-F47B-498F-8E79-F681CF514F4A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F090-2FFB-4FBB-B00C-3F7511CC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70722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26920" y="4590000"/>
            <a:ext cx="70722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D462-E2AD-4972-9023-A56AED5D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0680" y="272268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26920" y="459000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0680" y="459000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AF37-083B-4840-A48C-CB76C6D1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22770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18040" y="2722680"/>
            <a:ext cx="22770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09520" y="2722680"/>
            <a:ext cx="22770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26920" y="4590000"/>
            <a:ext cx="22770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18040" y="4590000"/>
            <a:ext cx="22770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09520" y="4590000"/>
            <a:ext cx="22770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F55-48C5-4760-8532-2B4F1208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EE3F-F43C-4490-A243-D21CFA3F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26920" y="2722680"/>
            <a:ext cx="707220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1B3E-3A17-42E4-9F56-19834DA5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707220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9D14-D883-4199-B0E1-3AA3AA97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345096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50680" y="2722680"/>
            <a:ext cx="345096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B546-4F23-4D79-92B9-F076F022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BE25-1F93-4CAF-A028-1200C1C6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728720" y="1428480"/>
            <a:ext cx="707256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4438-5ABE-429D-AD8E-7EA5B950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0680" y="2722680"/>
            <a:ext cx="345096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26920" y="459000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26EE-FD51-405A-94E6-9AC599AB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26920" y="2722680"/>
            <a:ext cx="707220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8219-C88D-411E-8D55-2084AECA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345096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0680" y="272268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50680" y="459000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F1A1-9052-44AE-8A47-948092AE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0680" y="272268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26920" y="4590000"/>
            <a:ext cx="70722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2875-6A35-4826-B796-FA0DC40F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70722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26920" y="4590000"/>
            <a:ext cx="70722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90C7-A64E-42EA-848D-174373B2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0680" y="272268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6920" y="459000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50680" y="459000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2E53-52E0-4E79-920B-2A808849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22770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18040" y="2722680"/>
            <a:ext cx="22770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9520" y="2722680"/>
            <a:ext cx="22770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26920" y="4590000"/>
            <a:ext cx="22770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18040" y="4590000"/>
            <a:ext cx="22770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9520" y="4590000"/>
            <a:ext cx="22770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E4AC-36DF-4ABD-86E2-43FB6FDF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707220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754-F3EB-42A8-9F85-4C517A0F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345096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0680" y="2722680"/>
            <a:ext cx="345096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128-12F6-49DE-AC30-B00EE20D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AF8-764E-4ECA-B4C4-0710D813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28720" y="1428480"/>
            <a:ext cx="707256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FE81-C635-4437-9822-8813EE6F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0680" y="2722680"/>
            <a:ext cx="345096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26920" y="459000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985A-9DF4-4401-BB81-D5E8D180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345096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0680" y="272268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0680" y="459000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002-EC28-4B65-BCA9-397737DD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0680" y="272268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26920" y="4590000"/>
            <a:ext cx="70722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D56E-C3F6-4C90-8F8C-160E9835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dafd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26920" y="2722680"/>
            <a:ext cx="707220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8240" indent="-154080">
              <a:lnSpc>
                <a:spcPct val="10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88520" indent="-1684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44400" indent="-1540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99920" indent="-1540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99920" indent="-154080">
              <a:lnSpc>
                <a:spcPct val="10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799920" indent="-154080">
              <a:lnSpc>
                <a:spcPct val="10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431640" y="1006560"/>
            <a:ext cx="8715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431640" y="423720"/>
            <a:ext cx="2190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SWEDISH AGENCY FOR ECONOM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AND REGIONAL GROW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TVV"/>
          <p:cNvPicPr/>
          <p:nvPr/>
        </p:nvPicPr>
        <p:blipFill>
          <a:blip r:embed="rId2"/>
          <a:stretch/>
        </p:blipFill>
        <p:spPr>
          <a:xfrm>
            <a:off x="7621560" y="347760"/>
            <a:ext cx="1081080" cy="422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743120" y="6455880"/>
            <a:ext cx="278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4589640" y="6455880"/>
            <a:ext cx="12585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5997240" y="6455880"/>
            <a:ext cx="10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AEE6-ECCD-4D08-9AE2-33D9DED657CB}" type="slidenum">
              <a:rPr b="1" lang="sv-SE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TVV"/>
          <p:cNvPicPr/>
          <p:nvPr/>
        </p:nvPicPr>
        <p:blipFill>
          <a:blip r:embed="rId2"/>
          <a:stretch/>
        </p:blipFill>
        <p:spPr>
          <a:xfrm>
            <a:off x="7621560" y="347760"/>
            <a:ext cx="1081080" cy="422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431640" y="423720"/>
            <a:ext cx="2190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SWEDISH AGENCY FOR ECONOM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AND REGIONAL GROW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431640" y="1006560"/>
            <a:ext cx="8715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TVV_monster_sid1_Ny"/>
          <p:cNvPicPr/>
          <p:nvPr/>
        </p:nvPicPr>
        <p:blipFill>
          <a:blip r:embed="rId3"/>
          <a:stretch/>
        </p:blipFill>
        <p:spPr>
          <a:xfrm>
            <a:off x="0" y="3979800"/>
            <a:ext cx="9144000" cy="243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dafd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726920" y="2722680"/>
            <a:ext cx="707220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8240" indent="-154080">
              <a:lnSpc>
                <a:spcPct val="10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88520" indent="-1684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44400" indent="-1540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99920" indent="-1540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99920" indent="-154080">
              <a:lnSpc>
                <a:spcPct val="10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799920" indent="-154080">
              <a:lnSpc>
                <a:spcPct val="10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89640" y="6455880"/>
            <a:ext cx="12585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743120" y="6455880"/>
            <a:ext cx="278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5997240" y="6455880"/>
            <a:ext cx="10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592C-2692-4092-A7EC-2534CCA5D597}" type="slidenum">
              <a:rPr b="1" lang="sv-SE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20440" y="1422000"/>
            <a:ext cx="7072200" cy="1212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2dafd6"/>
                </a:solidFill>
                <a:latin typeface="Arial"/>
              </a:rPr>
              <a:t>Gender equality for sustainable </a:t>
            </a:r>
            <a:br>
              <a:rPr sz="3600"/>
            </a:br>
            <a:r>
              <a:rPr b="1" lang="sv-SE" sz="3600" spc="-1" strike="noStrike">
                <a:solidFill>
                  <a:srgbClr val="2dafd6"/>
                </a:solidFill>
                <a:latin typeface="Arial"/>
              </a:rPr>
              <a:t>social and economic growth</a:t>
            </a:r>
            <a:endParaRPr b="1" lang="en-US" sz="36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33040" y="2684160"/>
            <a:ext cx="706140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 Swedish 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Project manager Rosi Hoff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Kastoria 2011-09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2dafd6"/>
                </a:solidFill>
                <a:latin typeface="Arial"/>
              </a:rPr>
              <a:t>What’s next?</a:t>
            </a: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26920" y="1844640"/>
            <a:ext cx="7072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of gender consequence analy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education / training within the organization / management and executive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igate needs of direct funding and more national gover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igate regionally adjustable gender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 step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dafd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iscussion and a hearing with the ”Ministry of Enterpri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nergy and Communication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2" descr="MP900438811[1]"/>
          <p:cNvPicPr/>
          <p:nvPr/>
        </p:nvPicPr>
        <p:blipFill>
          <a:blip r:embed="rId1"/>
          <a:stretch/>
        </p:blipFill>
        <p:spPr>
          <a:xfrm rot="685800">
            <a:off x="6816240" y="1375920"/>
            <a:ext cx="193536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3640" y="1699920"/>
            <a:ext cx="70725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2dafd6"/>
                </a:solidFill>
                <a:latin typeface="Arial"/>
              </a:rPr>
              <a:t>Thank you for your attention!</a:t>
            </a:r>
            <a:br>
              <a:rPr sz="3600"/>
            </a:br>
            <a:br>
              <a:rPr sz="3600"/>
            </a:br>
            <a:r>
              <a:rPr b="1" lang="sv-SE" sz="3000" spc="-1" strike="noStrike">
                <a:solidFill>
                  <a:srgbClr val="2dafd6"/>
                </a:solidFill>
                <a:latin typeface="Arial"/>
              </a:rPr>
              <a:t>rosi.hoffer@tillvaxtverket.se</a:t>
            </a: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19280" y="1428840"/>
            <a:ext cx="71820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afd6"/>
                </a:solidFill>
                <a:latin typeface="Arial"/>
              </a:rPr>
              <a:t>Swedish Agency for Economic</a:t>
            </a:r>
            <a:br>
              <a:rPr sz="2800"/>
            </a:br>
            <a:r>
              <a:rPr b="1" lang="en-US" sz="2800" spc="-1" strike="noStrike">
                <a:solidFill>
                  <a:srgbClr val="2dafd6"/>
                </a:solidFill>
                <a:latin typeface="Arial"/>
              </a:rPr>
              <a:t>and Regional Growth - Tillväxtverket</a:t>
            </a:r>
            <a:br>
              <a:rPr sz="2800"/>
            </a:b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18920" y="2637000"/>
            <a:ext cx="7056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im of the Swedish Agency for Economic and Regional Growth is to work tow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nterpri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ing enterpri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, competitive business and industry throughout Sw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2dafd6"/>
                </a:solidFill>
                <a:latin typeface="Arial"/>
              </a:rPr>
              <a:t>Governmental assignment </a:t>
            </a: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pic>
        <p:nvPicPr>
          <p:cNvPr id="101" name="Platshållare för innehåll 2" descr=""/>
          <p:cNvPicPr/>
          <p:nvPr/>
        </p:nvPicPr>
        <p:blipFill>
          <a:blip r:embed="rId1"/>
          <a:stretch/>
        </p:blipFill>
        <p:spPr>
          <a:xfrm>
            <a:off x="1981080" y="2305080"/>
            <a:ext cx="2737080" cy="3827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076720" y="2492280"/>
            <a:ext cx="31672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o investigate and describe the incidence of a gender perspective in the work towards regional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1428480"/>
            <a:ext cx="7182000" cy="92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2dafd6"/>
                </a:solidFill>
                <a:latin typeface="Arial"/>
              </a:rPr>
              <a:t>Starting point- </a:t>
            </a:r>
            <a:br>
              <a:rPr sz="3000"/>
            </a:br>
            <a:r>
              <a:rPr b="1" lang="sv-SE" sz="3000" spc="-1" strike="noStrike">
                <a:solidFill>
                  <a:srgbClr val="2dafd6"/>
                </a:solidFill>
                <a:latin typeface="Arial"/>
              </a:rPr>
              <a:t>sustainable development</a:t>
            </a: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18920" y="2276640"/>
            <a:ext cx="7180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000000"/>
                </a:solidFill>
                <a:uFillTx/>
                <a:latin typeface="Arial"/>
              </a:rPr>
              <a:t>Three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dafd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dafd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dafd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Gender equality as a goal or as a me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From a social to an economic dimens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28720" y="1428840"/>
            <a:ext cx="7072560" cy="17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2dafd6"/>
                </a:solidFill>
                <a:latin typeface="Arial"/>
              </a:rPr>
              <a:t>”</a:t>
            </a:r>
            <a:r>
              <a:rPr b="1" lang="sv-SE" sz="3000" spc="-1" strike="noStrike">
                <a:solidFill>
                  <a:srgbClr val="2dafd6"/>
                </a:solidFill>
                <a:latin typeface="Arial"/>
              </a:rPr>
              <a:t>What´s in it for me?”</a:t>
            </a:r>
            <a:br>
              <a:rPr sz="3000"/>
            </a:br>
            <a:r>
              <a:rPr b="1" lang="sv-SE" sz="3000" spc="-1" strike="noStrike">
                <a:solidFill>
                  <a:srgbClr val="2dafd6"/>
                </a:solidFill>
                <a:latin typeface="Arial"/>
              </a:rPr>
              <a:t>Scientific connections</a:t>
            </a: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26920" y="2060280"/>
            <a:ext cx="7072200" cy="42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Gender equality makes a more effective use of the human capital (sour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Gender equality facilitates in-depth democracy and will increase the social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Gender equality increases the regional attr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Gender equality increases the regional capability of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56880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Surveys and Policy Analyses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pic>
        <p:nvPicPr>
          <p:cNvPr id="108" name="Platshållare för innehåll 3" descr=""/>
          <p:cNvPicPr/>
          <p:nvPr/>
        </p:nvPicPr>
        <p:blipFill>
          <a:blip r:embed="rId1"/>
          <a:stretch/>
        </p:blipFill>
        <p:spPr>
          <a:xfrm>
            <a:off x="689040" y="2060640"/>
            <a:ext cx="3638520" cy="25178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360" y="1915920"/>
            <a:ext cx="374328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assignment has included several surveys sent to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876"/>
              </a:spcAft>
              <a:buClr>
                <a:srgbClr val="2dafd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onal Manag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876"/>
              </a:spcAft>
              <a:buClr>
                <a:srgbClr val="2dafd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onal County Administrative Boards - Regional Equality Exper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edback include wishes for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ronger guid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rom and demands of reporting towards the Government (on Gender Equality/mainstreaming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armarked fund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r work with Gender Equality/mainstream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duc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Boards and Mana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From talk to action" - to initiat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sequence analys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implement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ender budg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ruta 2"/>
          <p:cNvSpPr/>
          <p:nvPr/>
        </p:nvSpPr>
        <p:spPr>
          <a:xfrm>
            <a:off x="860400" y="4581360"/>
            <a:ext cx="37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he segregated labour market is a big issue in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92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2dafd6"/>
                </a:solidFill>
                <a:latin typeface="Arial"/>
              </a:rPr>
              <a:t>Conclusions  </a:t>
            </a: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26920" y="2133720"/>
            <a:ext cx="707220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mitment for gender mainstreaming seems to vary across the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der equality and gender mainstreaming is formally represented in governance and policy documents, and different projects, but the implementation has lost pace and moves 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estion of responsibility needs to be clear... partial lack of nation wide support (from both authorities, regional actors and other actors of inter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07:28:14Z</dcterms:created>
  <dc:creator>roshof</dc:creator>
  <dc:description/>
  <dc:language>en-US</dc:language>
  <cp:lastModifiedBy>Rosi Hoffer</cp:lastModifiedBy>
  <cp:lastPrinted>2011-09-09T13:16:31Z</cp:lastPrinted>
  <dcterms:modified xsi:type="dcterms:W3CDTF">2011-09-11T18:39:53Z</dcterms:modified>
  <cp:revision>54</cp:revision>
  <dc:subject/>
  <dc:title>Att välja jämställdhet</dc:title>
</cp:coreProperties>
</file>