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dafd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E99A-E006-463D-8349-E194A0EB4AA3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2F2F-5669-4482-AD55-BF32D89F1393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1F7D-1B64-4225-849E-23483BBF145A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tshållare för bildnumm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0411-4931-4B75-BC4D-59B05A451735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E8A8-BF21-405C-97F5-661388072474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tshållare för bildnumm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04C1-3EEA-40E9-87CB-0A5F57852D7D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C7F4-C347-4B86-9329-54E8A460FE35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56DD-86FE-47C4-9965-453928FAF21D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tshållare för bildnumm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0297-E907-43F6-9EAC-C997267E6C4F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3E2F-F73B-4562-BD16-60EA2694BEA2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5F88-CC76-45E8-968E-8053B89C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70722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26920" y="4590000"/>
            <a:ext cx="70722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64C-4E8C-4E71-87A7-F844578A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068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26920" y="459000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0680" y="459000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A86-8F40-4729-B255-E8CFA45A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18040" y="272268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09520" y="272268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26920" y="459000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18040" y="459000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09520" y="459000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B4B-1080-4E79-9613-F1E59206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7104-384D-47C1-BD76-433CFE82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26920" y="2722680"/>
            <a:ext cx="707220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E439-32D6-465E-A669-BF05389F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707220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AC0A-F6E7-4158-AE13-27215ECF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345096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50680" y="2722680"/>
            <a:ext cx="345096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2477-CBDB-4F38-8037-5BA77B82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E3B8-852A-44F1-97D6-15BA7208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728720" y="1428480"/>
            <a:ext cx="707256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0450-626C-4FE2-90BC-8B6A6554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0680" y="2722680"/>
            <a:ext cx="345096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26920" y="459000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BEF4-2E4A-4EA0-804B-B7AC3540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26920" y="2722680"/>
            <a:ext cx="707220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4C7-D460-4E6E-8FBA-A66A8E25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345096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068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50680" y="459000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65FA-A4E3-45E7-A35D-5E275C02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068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26920" y="4590000"/>
            <a:ext cx="70722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D99C-86DF-49C4-9C37-C74DB0A6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70722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26920" y="4590000"/>
            <a:ext cx="70722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DE8D-B281-4EF8-9483-1221362B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068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6920" y="459000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50680" y="459000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D8C3-4A6E-4785-920D-87BFCA1E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18040" y="272268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9520" y="272268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26920" y="459000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18040" y="459000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9520" y="4590000"/>
            <a:ext cx="22770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0639-A068-4967-890D-7130ED2E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707220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F8E-2D06-4FE3-8629-857717A2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345096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0680" y="2722680"/>
            <a:ext cx="345096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362E-5781-429A-BC15-EDA970CF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16D-DDEF-4657-B0BF-A069D015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28720" y="1428480"/>
            <a:ext cx="707256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ACFA-615A-4116-8F12-9E0ABC94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0680" y="2722680"/>
            <a:ext cx="345096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26920" y="459000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DC4B-4964-4B7F-97E5-E87AD137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345096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068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0680" y="459000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17C-1018-49AD-89E0-F417A662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2692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0680" y="2722680"/>
            <a:ext cx="34509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26920" y="4590000"/>
            <a:ext cx="70722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B53-1317-4AC5-A9D7-0929E94D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dafd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26920" y="2722680"/>
            <a:ext cx="707220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8240" indent="-154080">
              <a:lnSpc>
                <a:spcPct val="10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88520" indent="-1684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44400" indent="-1540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99920" indent="-1540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99920" indent="-154080">
              <a:lnSpc>
                <a:spcPct val="10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799920" indent="-154080">
              <a:lnSpc>
                <a:spcPct val="10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431640" y="1006560"/>
            <a:ext cx="8715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431640" y="423720"/>
            <a:ext cx="2190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SWEDISH AGENCY FOR ECONOM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AND REGIONAL GROW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TVV"/>
          <p:cNvPicPr/>
          <p:nvPr/>
        </p:nvPicPr>
        <p:blipFill>
          <a:blip r:embed="rId2"/>
          <a:stretch/>
        </p:blipFill>
        <p:spPr>
          <a:xfrm>
            <a:off x="7621560" y="347760"/>
            <a:ext cx="1081080" cy="422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743120" y="6455880"/>
            <a:ext cx="278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4589640" y="6455880"/>
            <a:ext cx="12585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5997240" y="6455880"/>
            <a:ext cx="10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CC93-0905-48A2-9585-018A52011868}" type="slidenum">
              <a:rPr b="1" lang="sv-SE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TVV"/>
          <p:cNvPicPr/>
          <p:nvPr/>
        </p:nvPicPr>
        <p:blipFill>
          <a:blip r:embed="rId2"/>
          <a:stretch/>
        </p:blipFill>
        <p:spPr>
          <a:xfrm>
            <a:off x="7621560" y="347760"/>
            <a:ext cx="1081080" cy="422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431640" y="423720"/>
            <a:ext cx="2190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SWEDISH AGENCY FOR ECONOM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AND REGIONAL GROW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431640" y="1006560"/>
            <a:ext cx="8715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TVV_monster_sid1_Ny"/>
          <p:cNvPicPr/>
          <p:nvPr/>
        </p:nvPicPr>
        <p:blipFill>
          <a:blip r:embed="rId3"/>
          <a:stretch/>
        </p:blipFill>
        <p:spPr>
          <a:xfrm>
            <a:off x="0" y="3979800"/>
            <a:ext cx="9144000" cy="243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dafd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726920" y="2722680"/>
            <a:ext cx="707220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8240" indent="-154080">
              <a:lnSpc>
                <a:spcPct val="10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88520" indent="-1684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44400" indent="-1540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99920" indent="-1540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99920" indent="-154080">
              <a:lnSpc>
                <a:spcPct val="10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799920" indent="-154080">
              <a:lnSpc>
                <a:spcPct val="105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89640" y="6455880"/>
            <a:ext cx="12585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743120" y="6455880"/>
            <a:ext cx="278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5997240" y="6455880"/>
            <a:ext cx="10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2090-48DF-46EE-943C-535A3F93BE76}" type="slidenum">
              <a:rPr b="1" lang="sv-SE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20440" y="1422000"/>
            <a:ext cx="7072200" cy="1212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2dafd6"/>
                </a:solidFill>
                <a:latin typeface="Arial"/>
              </a:rPr>
              <a:t>Gender equality for sustainable </a:t>
            </a:r>
            <a:br>
              <a:rPr sz="3600"/>
            </a:br>
            <a:r>
              <a:rPr b="1" lang="sv-SE" sz="3600" spc="-1" strike="noStrike">
                <a:solidFill>
                  <a:srgbClr val="2dafd6"/>
                </a:solidFill>
                <a:latin typeface="Arial"/>
              </a:rPr>
              <a:t>social and economic growth</a:t>
            </a:r>
            <a:endParaRPr b="1" lang="en-US" sz="36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33040" y="2684160"/>
            <a:ext cx="706140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 Swedish 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Project manager Rosi Hoff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Kastoria 2011-09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2dafd6"/>
                </a:solidFill>
                <a:latin typeface="Arial"/>
              </a:rPr>
              <a:t>What’s next?</a:t>
            </a: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26920" y="1844640"/>
            <a:ext cx="7072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of gender consequence analy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education / training within the organization / management and executiv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igate needs of direct funding and more national gover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igate regionally adjustable gender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 step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dafd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iscussion and a hearing with the ”Ministry of Enterpri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nergy and Communication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2" descr="MP900438811[1]"/>
          <p:cNvPicPr/>
          <p:nvPr/>
        </p:nvPicPr>
        <p:blipFill>
          <a:blip r:embed="rId1"/>
          <a:stretch/>
        </p:blipFill>
        <p:spPr>
          <a:xfrm rot="685800">
            <a:off x="6816240" y="1375920"/>
            <a:ext cx="193536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3640" y="1699920"/>
            <a:ext cx="70725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2dafd6"/>
                </a:solidFill>
                <a:latin typeface="Arial"/>
              </a:rPr>
              <a:t>Thank you for your attention!</a:t>
            </a:r>
            <a:br>
              <a:rPr sz="3600"/>
            </a:br>
            <a:br>
              <a:rPr sz="3600"/>
            </a:br>
            <a:r>
              <a:rPr b="1" lang="sv-SE" sz="3000" spc="-1" strike="noStrike">
                <a:solidFill>
                  <a:srgbClr val="2dafd6"/>
                </a:solidFill>
                <a:latin typeface="Arial"/>
              </a:rPr>
              <a:t>rosi.hoffer@tillvaxtverket.se</a:t>
            </a: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9280" y="1428840"/>
            <a:ext cx="71820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afd6"/>
                </a:solidFill>
                <a:latin typeface="Arial"/>
              </a:rPr>
              <a:t>Swedish Agency for Economic</a:t>
            </a:r>
            <a:br>
              <a:rPr sz="2800"/>
            </a:br>
            <a:r>
              <a:rPr b="1" lang="en-US" sz="2800" spc="-1" strike="noStrike">
                <a:solidFill>
                  <a:srgbClr val="2dafd6"/>
                </a:solidFill>
                <a:latin typeface="Arial"/>
              </a:rPr>
              <a:t>and Regional Growth - Tillväxtverket</a:t>
            </a:r>
            <a:br>
              <a:rPr sz="2800"/>
            </a:b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18920" y="2637000"/>
            <a:ext cx="7056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im of the Swedish Agency for Economic and Regional Growth is to work tow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nterpri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ing enterpri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, competitive business and industry throughout Sw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2dafd6"/>
                </a:solidFill>
                <a:latin typeface="Arial"/>
              </a:rPr>
              <a:t>Governmental assignment </a:t>
            </a: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pic>
        <p:nvPicPr>
          <p:cNvPr id="101" name="Platshållare för innehåll 2" descr=""/>
          <p:cNvPicPr/>
          <p:nvPr/>
        </p:nvPicPr>
        <p:blipFill>
          <a:blip r:embed="rId1"/>
          <a:stretch/>
        </p:blipFill>
        <p:spPr>
          <a:xfrm>
            <a:off x="1981080" y="2305080"/>
            <a:ext cx="2737080" cy="3827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076720" y="2492280"/>
            <a:ext cx="31672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o investigate and describe the incidence of a gender perspective in the work towards regional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1428480"/>
            <a:ext cx="7182000" cy="92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2dafd6"/>
                </a:solidFill>
                <a:latin typeface="Arial"/>
              </a:rPr>
              <a:t>Starting point- </a:t>
            </a:r>
            <a:br>
              <a:rPr sz="3000"/>
            </a:br>
            <a:r>
              <a:rPr b="1" lang="sv-SE" sz="3000" spc="-1" strike="noStrike">
                <a:solidFill>
                  <a:srgbClr val="2dafd6"/>
                </a:solidFill>
                <a:latin typeface="Arial"/>
              </a:rPr>
              <a:t>sustainable development</a:t>
            </a: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18920" y="2276640"/>
            <a:ext cx="7180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000000"/>
                </a:solidFill>
                <a:uFillTx/>
                <a:latin typeface="Arial"/>
              </a:rPr>
              <a:t>Three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dafd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dafd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dafd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Gender equality as a goal or as a me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From a social to an economic dimen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28720" y="1428840"/>
            <a:ext cx="7072560" cy="17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2dafd6"/>
                </a:solidFill>
                <a:latin typeface="Arial"/>
              </a:rPr>
              <a:t>”</a:t>
            </a:r>
            <a:r>
              <a:rPr b="1" lang="sv-SE" sz="3000" spc="-1" strike="noStrike">
                <a:solidFill>
                  <a:srgbClr val="2dafd6"/>
                </a:solidFill>
                <a:latin typeface="Arial"/>
              </a:rPr>
              <a:t>What´s in it for me?”</a:t>
            </a:r>
            <a:br>
              <a:rPr sz="3000"/>
            </a:br>
            <a:r>
              <a:rPr b="1" lang="sv-SE" sz="3000" spc="-1" strike="noStrike">
                <a:solidFill>
                  <a:srgbClr val="2dafd6"/>
                </a:solidFill>
                <a:latin typeface="Arial"/>
              </a:rPr>
              <a:t>Scientific connections</a:t>
            </a: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26920" y="2060280"/>
            <a:ext cx="7072200" cy="42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Gender equality makes a more effective use of the human capital (sour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Gender equality facilitates in-depth democracy and will increase the social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Gender equality increases the regional attr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Gender equality increases the regional capability of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56880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Surveys and Policy Analyses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pic>
        <p:nvPicPr>
          <p:cNvPr id="108" name="Platshållare för innehåll 3" descr=""/>
          <p:cNvPicPr/>
          <p:nvPr/>
        </p:nvPicPr>
        <p:blipFill>
          <a:blip r:embed="rId1"/>
          <a:stretch/>
        </p:blipFill>
        <p:spPr>
          <a:xfrm>
            <a:off x="689040" y="2060640"/>
            <a:ext cx="3638520" cy="25178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360" y="1915920"/>
            <a:ext cx="374328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assignment has included several surveys sent to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876"/>
              </a:spcAft>
              <a:buClr>
                <a:srgbClr val="2dafd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al Manag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876"/>
              </a:spcAft>
              <a:buClr>
                <a:srgbClr val="2dafd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al County Administrative Boards - Regional Equality Exper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edback include wishes for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ronger guid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rom and demands of reporting towards the Government (on Gender Equality/mainstreaming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armarked fund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r work with Gender Equality/mainstream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duc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Boards and Mana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From talk to action" - to initiat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sequence analys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implemen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ender budg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ruta 2"/>
          <p:cNvSpPr/>
          <p:nvPr/>
        </p:nvSpPr>
        <p:spPr>
          <a:xfrm>
            <a:off x="860400" y="4581360"/>
            <a:ext cx="37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he segregated labour market is a big issue in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28720" y="1428480"/>
            <a:ext cx="7072560" cy="92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2dafd6"/>
                </a:solidFill>
                <a:latin typeface="Arial"/>
              </a:rPr>
              <a:t>Conclusions  </a:t>
            </a:r>
            <a:endParaRPr b="1" lang="en-US" sz="3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26920" y="2133720"/>
            <a:ext cx="707220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mitment for gender mainstreaming seems to vary across the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der equality and gender mainstreaming is formally represented in governance and policy documents, and different projects, but the implementation has lost pace and moves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estion of responsibility needs to be clear... partial lack of nation wide support (from both authorities, regional actors and other actors of inter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07:28:14Z</dcterms:created>
  <dc:creator>roshof</dc:creator>
  <dc:description/>
  <dc:language>en-US</dc:language>
  <cp:lastModifiedBy>Rosi Hoffer</cp:lastModifiedBy>
  <cp:lastPrinted>2011-09-09T13:16:31Z</cp:lastPrinted>
  <dcterms:modified xsi:type="dcterms:W3CDTF">2011-09-11T18:39:53Z</dcterms:modified>
  <cp:revision>54</cp:revision>
  <dc:subject/>
  <dc:title>Att välja jämställdhet</dc:title>
</cp:coreProperties>
</file>