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B99-143B-4407-8D68-783AF6B5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76C-2171-4DD3-BE14-FEB4C87E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509-7690-4FDC-B42E-5C3FA705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4B4-3311-4A4E-8DC9-1DA6D536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26B-212B-479C-A633-4F23BC29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EA1-730A-487F-B6B1-6EEA6609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D61-C731-49B0-BBE0-61C74C9B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697-E833-4AE3-8CED-5BB9D20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3CD-5E28-4889-A7DA-9817565D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742-7B7C-4D15-A575-AFC10FA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987-C129-429B-A814-9F71FA5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8A1-4BFE-409F-A387-19D91305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60C4-43F3-4363-8347-B02F2F25A044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Winnet Centre of Excel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628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Rockwell"/>
              </a:rPr>
              <a:t>Structured knowledge about WR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869000"/>
            <a:ext cx="71614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hD Malin Lind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Luleå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19640" y="692280"/>
            <a:ext cx="2158920" cy="1909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98100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Winnet Centre of Excellence 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                                           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450864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Disseminate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852640"/>
            <a:ext cx="216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371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537372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98100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Crucial actors 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                            in Winnet Centre of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429264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inne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3141720"/>
            <a:ext cx="23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22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Policy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61657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99cc00"/>
                </a:solidFill>
                <a:latin typeface="Rockwell"/>
              </a:rPr>
              <a:t>…</a:t>
            </a:r>
            <a:r>
              <a:rPr b="0" lang="sv-SE" sz="2800" spc="-1" strike="noStrike">
                <a:solidFill>
                  <a:srgbClr val="99cc00"/>
                </a:solidFill>
                <a:latin typeface="Rockwell"/>
              </a:rPr>
              <a:t>network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2920" y="1773360"/>
            <a:ext cx="21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Top down</a:t>
            </a: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551664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Botto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3382920" cy="3057840"/>
          </a:xfrm>
          <a:prstGeom prst="rect">
            <a:avLst/>
          </a:prstGeom>
          <a:ln w="0">
            <a:noFill/>
          </a:ln>
        </p:spPr>
      </p:pic>
      <p:cxnSp>
        <p:nvCxnSpPr>
          <p:cNvPr id="59" name=""/>
          <p:cNvCxnSpPr/>
          <p:nvPr/>
        </p:nvCxnSpPr>
        <p:spPr>
          <a:xfrm rot="5400000">
            <a:off x="1042200" y="2852280"/>
            <a:ext cx="1297800" cy="57708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 flipH="1" flipV="1" rot="5400000">
            <a:off x="6156000" y="4652280"/>
            <a:ext cx="1152720" cy="43236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3213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RC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04640"/>
            <a:ext cx="8569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Gender in regional growth</a:t>
            </a:r>
            <a:br>
              <a:rPr sz="4400"/>
            </a:b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                              balanced knowledg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95640" y="765000"/>
            <a:ext cx="3168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1844640"/>
            <a:ext cx="7016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about Winnet Centre of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7160" cy="3967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8000" y="2852640"/>
            <a:ext cx="23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V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3429000"/>
            <a:ext cx="266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Organis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860640"/>
            <a:ext cx="23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Fu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4581360"/>
            <a:ext cx="345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Research the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2628720" cy="439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076640"/>
            <a:ext cx="701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ho does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2060640"/>
            <a:ext cx="7559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24280"/>
            <a:ext cx="7010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hen do we follow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429000"/>
            <a:ext cx="701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hat to do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1:22:33Z</dcterms:created>
  <dc:creator>mallin</dc:creator>
  <dc:description/>
  <dc:language>en-US</dc:language>
  <cp:lastModifiedBy>mallin</cp:lastModifiedBy>
  <dcterms:modified xsi:type="dcterms:W3CDTF">2011-09-12T09:29:43Z</dcterms:modified>
  <cp:revision>76</cp:revision>
  <dc:subject/>
  <dc:title>Innovation policy</dc:title>
</cp:coreProperties>
</file>