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A5B-3E19-4F2D-90A6-230D9133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966-42F1-40C1-87CC-0B71D0D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15A-5159-4802-8430-6960F48D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657-8CD2-43B1-8F9B-35379B8C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523-5278-4DEA-A22C-D4B2C23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B25-1D0B-4436-9658-458E18E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D75-56A6-4720-B564-03966C80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EFF-0525-4B97-90E2-E8EB68E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089-2FC6-4BE2-AF74-D812E72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954-B587-46B3-9503-2EAF61C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76A-00EA-4FAB-A6D1-D3D2B9EC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A92-6EAD-4346-BDEE-DFBD727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757-5F40-4A21-9B38-FAA5A57DD10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Winnet Centre of Excel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Rockwell"/>
              </a:rPr>
              <a:t>Structured knowledge about W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71614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hD Malin Lind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Luleå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19640" y="692280"/>
            <a:ext cx="2158920" cy="190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98100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Winnet Centre of Excellence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               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450864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Disseminate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85264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371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537372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98100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Crucial actors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in Winnet Centre of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29264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inne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141720"/>
            <a:ext cx="23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22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Policy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6165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99cc00"/>
                </a:solidFill>
                <a:latin typeface="Rockwell"/>
              </a:rPr>
              <a:t>…</a:t>
            </a:r>
            <a:r>
              <a:rPr b="0" lang="sv-SE" sz="2800" spc="-1" strike="noStrike">
                <a:solidFill>
                  <a:srgbClr val="99cc00"/>
                </a:solidFill>
                <a:latin typeface="Rockwell"/>
              </a:rPr>
              <a:t>network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2920" y="1773360"/>
            <a:ext cx="21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Top down</a:t>
            </a: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551664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Botto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3382920" cy="3057840"/>
          </a:xfrm>
          <a:prstGeom prst="rect">
            <a:avLst/>
          </a:prstGeom>
          <a:ln w="0">
            <a:noFill/>
          </a:ln>
        </p:spPr>
      </p:pic>
      <p:cxnSp>
        <p:nvCxnSpPr>
          <p:cNvPr id="59" name=""/>
          <p:cNvCxnSpPr/>
          <p:nvPr/>
        </p:nvCxnSpPr>
        <p:spPr>
          <a:xfrm rot="5400000">
            <a:off x="1042200" y="2852280"/>
            <a:ext cx="1297800" cy="57708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 flipH="1" flipV="1" rot="5400000">
            <a:off x="6156000" y="4652280"/>
            <a:ext cx="1152720" cy="43236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3213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RC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04640"/>
            <a:ext cx="8569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Gender in regional growth</a:t>
            </a:r>
            <a:br>
              <a:rPr sz="4400"/>
            </a:b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                              balanced knowledg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95640" y="765000"/>
            <a:ext cx="3168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1844640"/>
            <a:ext cx="7016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about Winnet Centre of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7160" cy="396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2852640"/>
            <a:ext cx="23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3429000"/>
            <a:ext cx="266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Organis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860640"/>
            <a:ext cx="23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Fu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4581360"/>
            <a:ext cx="345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Research the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628720" cy="43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07664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o does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060640"/>
            <a:ext cx="7559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99cc00"/>
                </a:solidFill>
                <a:latin typeface="Rockwel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24280"/>
            <a:ext cx="7010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en do we foll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42900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Rockwell"/>
              </a:rPr>
              <a:t>What to do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1:22:33Z</dcterms:created>
  <dc:creator>mallin</dc:creator>
  <dc:description/>
  <dc:language>en-US</dc:language>
  <cp:lastModifiedBy>mallin</cp:lastModifiedBy>
  <dcterms:modified xsi:type="dcterms:W3CDTF">2011-09-12T09:29:43Z</dcterms:modified>
  <cp:revision>76</cp:revision>
  <dc:subject/>
  <dc:title>Innovation policy</dc:title>
</cp:coreProperties>
</file>